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  <p:sldId id="285" r:id="rId80"/>
    <p:sldId id="286" r:id="rId81"/>
    <p:sldId id="287" r:id="rId82"/>
    <p:sldId id="288" r:id="rId83"/>
    <p:sldId id="289" r:id="rId84"/>
    <p:sldId id="290" r:id="rId85"/>
    <p:sldId id="291" r:id="rId86"/>
    <p:sldId id="292" r:id="rId87"/>
    <p:sldId id="293" r:id="rId88"/>
    <p:sldId id="294" r:id="rId89"/>
    <p:sldId id="295" r:id="rId90"/>
    <p:sldId id="296" r:id="rId91"/>
    <p:sldId id="297" r:id="rId92"/>
    <p:sldId id="298" r:id="rId93"/>
    <p:sldId id="299" r:id="rId94"/>
    <p:sldId id="300" r:id="rId95"/>
    <p:sldId id="301" r:id="rId96"/>
    <p:sldId id="302" r:id="rId97"/>
    <p:sldId id="303" r:id="rId98"/>
    <p:sldId id="304" r:id="rId99"/>
    <p:sldId id="305" r:id="rId100"/>
    <p:sldId id="306" r:id="rId101"/>
    <p:sldId id="307" r:id="rId102"/>
    <p:sldId id="308" r:id="rId103"/>
    <p:sldId id="309" r:id="rId104"/>
    <p:sldId id="310" r:id="rId105"/>
    <p:sldId id="311" r:id="rId106"/>
    <p:sldId id="312" r:id="rId107"/>
    <p:sldId id="313" r:id="rId108"/>
    <p:sldId id="314" r:id="rId109"/>
    <p:sldId id="315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slide" Target="slides/slide30.xml"/><Relationship Id="rId81" Type="http://schemas.openxmlformats.org/officeDocument/2006/relationships/slide" Target="slides/slide31.xml"/><Relationship Id="rId82" Type="http://schemas.openxmlformats.org/officeDocument/2006/relationships/slide" Target="slides/slide32.xml"/><Relationship Id="rId83" Type="http://schemas.openxmlformats.org/officeDocument/2006/relationships/slide" Target="slides/slide33.xml"/><Relationship Id="rId84" Type="http://schemas.openxmlformats.org/officeDocument/2006/relationships/slide" Target="slides/slide34.xml"/><Relationship Id="rId85" Type="http://schemas.openxmlformats.org/officeDocument/2006/relationships/slide" Target="slides/slide35.xml"/><Relationship Id="rId86" Type="http://schemas.openxmlformats.org/officeDocument/2006/relationships/slide" Target="slides/slide36.xml"/><Relationship Id="rId87" Type="http://schemas.openxmlformats.org/officeDocument/2006/relationships/slide" Target="slides/slide37.xml"/><Relationship Id="rId88" Type="http://schemas.openxmlformats.org/officeDocument/2006/relationships/slide" Target="slides/slide38.xml"/><Relationship Id="rId89" Type="http://schemas.openxmlformats.org/officeDocument/2006/relationships/slide" Target="slides/slide39.xml"/><Relationship Id="rId90" Type="http://schemas.openxmlformats.org/officeDocument/2006/relationships/slide" Target="slides/slide40.xml"/><Relationship Id="rId91" Type="http://schemas.openxmlformats.org/officeDocument/2006/relationships/slide" Target="slides/slide41.xml"/><Relationship Id="rId92" Type="http://schemas.openxmlformats.org/officeDocument/2006/relationships/slide" Target="slides/slide42.xml"/><Relationship Id="rId93" Type="http://schemas.openxmlformats.org/officeDocument/2006/relationships/slide" Target="slides/slide43.xml"/><Relationship Id="rId94" Type="http://schemas.openxmlformats.org/officeDocument/2006/relationships/slide" Target="slides/slide44.xml"/><Relationship Id="rId95" Type="http://schemas.openxmlformats.org/officeDocument/2006/relationships/slide" Target="slides/slide45.xml"/><Relationship Id="rId96" Type="http://schemas.openxmlformats.org/officeDocument/2006/relationships/slide" Target="slides/slide46.xml"/><Relationship Id="rId97" Type="http://schemas.openxmlformats.org/officeDocument/2006/relationships/slide" Target="slides/slide47.xml"/><Relationship Id="rId98" Type="http://schemas.openxmlformats.org/officeDocument/2006/relationships/slide" Target="slides/slide48.xml"/><Relationship Id="rId99" Type="http://schemas.openxmlformats.org/officeDocument/2006/relationships/slide" Target="slides/slide49.xml"/><Relationship Id="rId100" Type="http://schemas.openxmlformats.org/officeDocument/2006/relationships/slide" Target="slides/slide50.xml"/><Relationship Id="rId101" Type="http://schemas.openxmlformats.org/officeDocument/2006/relationships/slide" Target="slides/slide51.xml"/><Relationship Id="rId102" Type="http://schemas.openxmlformats.org/officeDocument/2006/relationships/slide" Target="slides/slide52.xml"/><Relationship Id="rId103" Type="http://schemas.openxmlformats.org/officeDocument/2006/relationships/slide" Target="slides/slide53.xml"/><Relationship Id="rId104" Type="http://schemas.openxmlformats.org/officeDocument/2006/relationships/slide" Target="slides/slide54.xml"/><Relationship Id="rId105" Type="http://schemas.openxmlformats.org/officeDocument/2006/relationships/slide" Target="slides/slide55.xml"/><Relationship Id="rId106" Type="http://schemas.openxmlformats.org/officeDocument/2006/relationships/slide" Target="slides/slide56.xml"/><Relationship Id="rId107" Type="http://schemas.openxmlformats.org/officeDocument/2006/relationships/slide" Target="slides/slide57.xml"/><Relationship Id="rId108" Type="http://schemas.openxmlformats.org/officeDocument/2006/relationships/slide" Target="slides/slide58.xml"/><Relationship Id="rId109" Type="http://schemas.openxmlformats.org/officeDocument/2006/relationships/slide" Target="slides/slide59.xml"/><Relationship Id="rId110" Type="http://schemas.openxmlformats.org/officeDocument/2006/relationships/slide" Target="slides/slide60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Text Box 12"/>
          <p:cNvSpPr/>
          <p:nvPr/>
        </p:nvSpPr>
        <p:spPr>
          <a:xfrm>
            <a:off x="3884760" y="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A9B73-987D-4779-BEAB-91001424D4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73E23-3BDF-4ABA-BAB0-129FEC8535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312C8-5A61-48BC-BDC5-B323BB2687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7FD68-E2E3-4976-9139-6FB006FC40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2B96F-CDEE-4E5B-BED6-623AA8BDC7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221D6-7D71-4B06-A7C2-5F59E8D2E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ECE46-F15C-422D-946A-6AD0981C0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D29E4-3E17-4DA2-8216-AB6652161F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6C13D-5D0E-4607-810C-52AAAF14AD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5A1C0-DC67-4D2E-8B51-B92B33992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93EAF-F694-4DD5-8CA1-CF459A5B53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B1352-BD01-43F5-9EB9-7903137D58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5547B-4B85-4939-A333-D6E2D00315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C4745-7315-4D2D-A892-175A9DE1C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31527-DE4E-4CB4-A671-2657BC8C2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932E6-EA5D-4F67-84AD-3DBE95F6C8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C08F1-8587-474E-B334-504BBD3F9E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B5732-861D-402B-BD2F-69109F81E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5856A-FE47-43ED-8F49-6E1F7C2627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4085F-8A82-454F-AE06-FB9AC16146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47047-5CDE-437E-BB39-4B4A887F7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88130-0210-4214-B0B9-1BF9F48889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CEF13-3B2C-443F-AA15-7EBE9F628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ADAC8-806E-4432-A49E-475BAA05AF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A1DDC-CDAC-4ED8-A28C-D07A0D55A5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89B37-5DA2-4F42-A358-501C1ED35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0D2AB-ED0F-41F7-BA58-25A417F564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30372-C1A8-4CD2-9113-7210FFDF62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B80B2-057D-48EB-A0A0-A677D820AC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222FC-C4D3-4285-934A-E1D838F451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7B82B-1D9C-4681-9E3B-6FDD674AE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44C85-529C-4438-916A-35B10025C6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00655-60F3-4E0A-B69F-FF9C679167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8A5C4-6092-4215-8EDC-77ACD31D7C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E3564-C2B5-49EB-B657-0E03013066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18865-19B7-4272-8239-8328FF3B83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F48F3-245A-4F81-BBE0-CD90CAC93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8CE78-AA27-46F9-89C0-AF0F4FEBC0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23C2B-43AE-4119-A47A-50B11094F9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ABE6A-CE34-46A2-976E-F5AFA938C5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D3226-D74F-47B5-95EF-E4E1DFF46D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28659-06CD-44A1-88E4-96A90068A1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250A2-4087-4D8C-8304-0AB8B3EB37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53955-8726-48EC-987F-A4E3EC5B11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1EA69-3D3A-4E1A-BAEB-EBECC54E14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C7A5E-BE4F-4F5D-A770-914C96BCBC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BA2CD-CE58-479C-9CE4-1A713A998C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A042D-9436-416E-A65F-02664E1EF0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7CDA7-7B94-4CCF-8566-74B1138AD5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06CDC-3937-4392-A06A-32CFA33F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F1CDB-BEF4-431A-8996-9EE99E7C3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D3DAA-7F9D-456C-BE1D-57FA0673B6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B15AE-F47F-4089-8076-BBFEE72DF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6AFAB-35E5-4ECB-BF40-3BC4D412AE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E02CA-5B63-4620-B621-D179D402C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3ACFF-C36A-405A-B3B4-A23C4B2816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C48F1-091D-4EE0-A3B8-5DFE038E49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80C1E-51A3-4E52-A14E-9897FBBDE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E4406-527C-4545-82F5-716C35A38C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3DDCF-71B7-44E1-A762-87B21F65A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22A89-B8FB-490B-9733-1A420E5F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Rectangle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1830E-794D-4368-8302-3A9400B656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89450-8182-49A2-B92B-3AEF13BE32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CF203-4FA2-44F2-B592-F762F97376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BAAD3-35FC-4612-9122-152C94B9D0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69008-3698-41F4-B2D2-DA5492D22C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E1E6F-06A5-434C-B89E-5F785FE47A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0FB42-3555-4920-8E7C-285E59299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60C29-F5DD-481E-AA82-EB6E1A89F3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B59A3-C24B-41D7-9DF7-522B1AEF9A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C797A-F46E-4EE6-9567-D31A2BA1E2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6F13A-0573-47E8-BFB4-C90D8C9EEB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E8989-2045-4FF1-A7DA-22CBBA86C2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45417-C767-45D5-B0F2-3E72EFF1F6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0C399-57A4-40CF-8498-9741305640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21D7E-0D60-4001-AD2E-8ECEDC3683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A2730-DF39-494A-B82D-44E1CDE3A6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F8375-525E-416E-9B7A-49EFF604EF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BFBDA-439B-4814-8795-143900A8F6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DF44C-4202-4728-ADE4-33531157EC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60578-CF9C-470B-8D23-3FA0035C9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20FC7-AA7F-46BC-8FB6-1156DAE64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E9F4A-47CE-4371-9973-F52A15EEF8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D3AC4-C44F-4D46-A357-AD5A8CBF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44520-179F-43A0-9845-244EB1EA38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1AE6E-C86F-423F-BCE4-AFF68C7066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76AE7-A545-456F-AF12-035E61FBB9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23170-A22B-46F4-80DC-E27303C1A2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8BD3C-95C7-4266-9B82-792978AA32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1635F-6EB7-4C0A-834A-75C8ECD7FC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FA04F-B6F7-4AE2-824B-A83C2E3956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32BBC-BFB3-4C03-BAE5-4A3682D88F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601AF-414F-40B6-BEF4-AAF2BA93EB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73A7D-45DE-46BA-93BE-54459C5740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9F0F5-A60D-4973-92E2-D6CA7800B0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5F95C-D339-474A-9141-1DC4545BD2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39EDF-D1F6-49E2-A115-7A2F3E8B20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2444F-8F6B-433A-8601-96DB921593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8E50D-B675-4FFB-89D8-07B97E198C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59306-686C-4929-A267-1494509C10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39DBC-680B-44A9-BA46-D01898D113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24383-7E2A-4A20-B2B5-6A1271C319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3FB18-665E-4539-9FB5-75DCAC3F5A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E8F53-B8D1-41A6-9C11-8D522E9779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1DDA2-0317-444A-8BE7-DFED2247BA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E392E-8FCE-40BB-88DE-25514707D2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9DF3F-0C3F-4D86-A813-06C850642F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D500C-FF1A-47B5-88B8-BF7769BF30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466FA-233D-4B8C-8144-31CD0F2AB6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C14CA-3973-47AA-9C8A-EE7CADB0BE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9ADD7-42B3-4333-A8E6-87E2120005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F8BD2-23F2-4D6F-A176-15AA8EB1B3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A313E-FF50-4ADC-89FC-E361F85504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5D563-E046-448D-A1AD-618FF42EB4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9F2E6-C9CE-4B63-B264-6DA842CE42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96FE9-A5D1-438F-9B07-7BADA41F36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358C4-6664-4B0D-858C-DE876949D8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06D1B-AA30-4135-92AC-8D172E7815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39EEA-6041-4162-8936-72193D8C45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D4BFF-EF68-4BEC-B27F-F8C8EEB30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дање; собни бицикл; вежбе са теговима; Таи-чи; хидроКТ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ЦИЉ: 20-30 мин, 2-3 пута/недељ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58957-59E1-4203-9DC2-63FC8E69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FDEDC-B414-4F89-ACC3-422AC54E25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F8755-7781-4276-A229-B5A65942A1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54ABF-F988-4610-8E84-BC44AFD88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DF8E3-07B7-4DC3-A7FB-9D3233C131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08D35-FBB8-4780-B006-FDBF24F69C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432B6-BDC5-4E38-88D7-808EBBEB10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34D38-7103-408A-8123-F2B8729D5F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899DF-B289-4F56-8688-3CE9F70627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FF3EF-706E-4DCF-8183-8D8A197B77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B94CA-7850-495F-A72F-B0950099A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8739-BA7D-4534-B97F-2AF907C07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4A33-A46B-45D8-AE89-EAB566EC92F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58977-2B14-4F19-BBD6-F01929C1ABF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8CA6-3788-46F1-B10E-4BBC016E280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8E8CC-0C82-40DC-9AA8-180D4B64B12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CC20B-ECBA-4C3B-95BD-F8D89EA7AF6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ADF5-69A5-47E3-9C70-A1D7400A4B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E97D-B38F-4601-9E00-65D3604ABF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AAA4-FC88-4FDD-8733-3C63D06C03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B86AA-39DA-4106-BF55-E5EA422D44B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390F-1F62-41E7-99A9-5218C3DC6FF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DB379-0F18-4E3C-B32C-739E84D58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A989-95D2-48AB-A35A-E6A8655042A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8F6FB-C877-40A3-B76A-772A70E52DB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FF2405-77E4-44B4-9D83-E6B2F0DD414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149EC-E990-4B73-A421-2C88D3128AC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1D911-1BAD-4F41-9C69-739C7B761E3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2AC5EF-9BCB-4737-9742-A8927611D95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729EB-9ADB-47D5-A11E-AF4EEC9879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276385-ACC7-4D32-A0AE-43AEF066BA5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8C4925-6474-4206-B097-87D758A1C20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9980C-331D-44F2-A134-38BFA80C854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34DC6-36A7-40F1-99EC-94742881E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0019-51E7-4E27-931F-741D15F6CBC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58D81F-1B8A-4398-8C31-BEF951C3EE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38155-5003-43AD-985B-3C0C9A8259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561D5-F3F4-4099-B043-58B21988BCF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6DD4B-5BAE-4F81-BFC4-2015FFE725B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77728-519B-41BF-BFC2-0F58BD79CA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83A4B-931E-4986-9D12-C122C1487F2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41E66-141A-4B3A-8896-B83A2026188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8D5D60-0E90-4512-A1DD-CC5644A99A8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B4D4A-B0F4-49AB-9599-C42660B044F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1EBB2-6D7C-455D-8544-1EEBBA49D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D1BF-E7CC-4CA4-AF8E-0DAD92741FE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1DB4C-A669-4384-9AA5-2AB1BD9B020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C72B9-19E1-44CC-9205-C1EE34BB68B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725838-215B-460F-8C96-EBB22235DF1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2C1E-81B2-4FDF-8C81-172D563B651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AC5D-50A4-46A6-A17A-0FC27448D96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610A-E40B-438B-A9C2-58A8BE871AE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B1291-17C8-4363-8E59-73F289945EF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AA6F-A859-49E2-9472-2CDE7510E66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28299-5D29-44B4-85F8-681C45F6F53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0576-6CD8-4BCF-B97C-82924D7A11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819E-5400-42A6-B45F-237EDDD7C13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FA254-432F-4962-BAE7-441ECD6C568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E55A-A645-49ED-9924-BEEADF16B60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AB19-901C-42A7-8F44-BAB0B09433D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5BA03-74F2-4C09-9B33-B0109218910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4F7F5-AADD-426C-9AC6-5508DEF20C2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300D3D-7711-436F-87CF-EC708D86707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D0FA58-24D0-451F-80A8-E33560F0C8D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3ED27-2473-4514-9B8C-24A01ED29FF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2605FE-BC24-4E29-8F6A-D817AF5286C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758FA4-6295-4A18-AD38-3FB7B681E9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FE48-7490-43B1-8DFF-3DFFF8287F7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5AED15-3E4F-4A38-A80D-DFBAEB3C3D0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C79966-B82D-4DB3-B32A-9366F70EB05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7CD5FD-EAC4-4401-93BF-4B1C6DD0BF3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9DAD22-97D1-4D8C-8F2E-E8FEECB81EC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AA1F25-3EA9-454B-BECC-41E452F0B53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7F2DDC-FE8A-4697-B756-1F338A0C345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78D73C-B515-4C0C-9972-BBE221243AD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1627E-259B-4E02-BD25-6953545DF44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CC466-7DAA-49D1-A2B1-6F936C46184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AF80C-F2E2-4887-87A9-707B1437E4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DA273-80B7-49F7-8B5B-247B714D3AE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F195D-C769-4F74-8B00-B02E1DB912B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AB30C-1973-4BBE-A488-0EF18090757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36AA4-2ED5-41B6-B3E6-5EC23BF1A54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4A6B2-0CDD-42A2-BE36-010FB176299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F5AF9-E299-4DFA-A3B1-2D860B35E69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C3EEB-6DAB-4546-BEAD-1A1AA074F6B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96211-C759-4A41-BB18-AB99A591689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EF02A-E0B9-4F26-998D-07A98096BC8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F07A7-6EA2-46BF-8FFE-FBFA4EAC3BC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F47B-6B9E-4F63-96D6-CCF0329C55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36AA-8BFB-4649-8021-F41653E5AF3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33FD7-233F-420D-9768-19EE834AAD7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F622-9833-4735-AA8E-CD0E03B6F74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AF4E8-A39A-4996-BB34-A0AFD3EC82E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BE3C0-0436-41AA-87AC-9561A475520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B16D0-ED91-4BC0-ABDB-98F17A7C7E0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6F757-80D7-4827-BBAD-F3555AFD52F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38BC0-BFCE-44A4-96AC-9F6EA901DE7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156C8-330C-4BF7-AB02-B4228500345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25BBB-A114-400A-AF85-90E1A45D10A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A39E9-3377-48DA-8BCD-FC812F7B92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A40E-0131-4D71-91E0-3C6BD4CD973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5EBF-665E-444C-9A50-DAAA71734EE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091C3B-9B0F-41B3-881F-60409F6CE12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669B53-6C48-4BC3-A0E6-5EB228147CB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49277D-9A1C-47E3-86AB-925F92FCC0C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4CB2DC-FCAD-4739-9637-10E659DA5A5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BA97A6-36BB-4300-A713-2438ED1FDFE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75B7FC-442E-4C33-BDDB-1EA61371ACB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2AF1F-32F8-44F1-B182-9E6CA34DA0B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37AFA0-D975-4F6D-8C56-66CAB9EB960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54B7B4-58BA-47F6-9202-8B9C18AE16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5548-E302-4266-8E4E-45FEABEB1E2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E4A9C0-DF36-4B05-8D43-E61A674558D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D9D84A-4C22-42AB-AAE2-8D0F8681C1E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87D82E-D57A-49BA-9F30-4812143E6E3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54E03-1BE5-427D-A980-861B0FF87DD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11C27-32A8-47F0-9AE8-B7E8AA07D62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64BFE-FCDF-4D73-8326-A9D8AC40655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BF779-E2B9-4A4A-8636-2B175BFCFCC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90457-2773-4362-993A-75ED5279520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D44B9-E96D-4C0B-B7FE-EB854AB458D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C11EB-3262-4D8C-B28F-43E8CB2BB0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EC69-FAF3-47FA-83AA-0D43BAEB8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C768-4B98-4013-9201-40F069B5272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607F7-E63A-40CA-9D3D-4DCDB993D05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AA475-F498-46C9-9DF1-F6806380B7E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369D4-034B-4E47-BBAD-5D52E7C109D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92992-679F-4EE2-84BD-87E2B38CC1F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4E24A-BB13-4E7C-868D-EF5B36B7465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CD901-047C-4B42-9BC9-98F0FFDD333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8037-69F5-428C-B6FC-C6578B7A5CB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4C0E1-6ED0-4020-A5A0-B5A4EF5D69C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1753A-172E-42EB-8347-951168BE75D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5C543-F503-4039-BD37-DDA6751211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FD8C-9AB5-41BE-9C96-A481AF4CA2E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A33EB-72E8-48FA-9455-C1A0BC760E5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FFEF6-3452-4F1B-A40D-DB378AB86F4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D2BF6-0B1A-4C08-BE91-4A44432E3DB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70EA1-A698-4B49-AFA2-31CF422AF41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C5F5A-32B9-4B32-9024-31E9E72D44D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F2DF1-4189-4E5F-9F45-8FF08C92FEA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60617-B84A-43B3-8149-FE207CCB65A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E38F2C-D092-4D0B-ADFC-FF0674AA5C0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04B856-894F-43C1-837C-9B219E7E35D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072CCB-BF29-4322-BA45-64AB23012E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50E1-B62A-4348-86B5-B52BA14FC52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5D78C9-D9F0-41C1-9450-F26BBB41BB2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E4342B-09A5-4779-8A2A-45601432DF5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FF9E56-4AA5-4F49-B959-95D18D86AA1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F96A48-E3B2-47C5-A8C6-7C0305A8110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4F47D5-8521-40C9-92C6-CFA44FD635F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1454AB-E9B1-42AA-9F9C-8836F223DE9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5D96B9-71A5-42E4-9805-FB2B4C50E74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4AD592-B410-4EE5-845A-10D082B2EB4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804E56-3F18-47DB-9968-C0249C6C8C3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27D07-57FF-40BD-81B6-3FDED92D7E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BD2B-A755-4407-95C9-92923F71C66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8D8AD-6699-4E73-9BE1-CE6A6127D12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7245C-BE42-40A6-8B65-5F738956889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EA295-4956-4638-A769-C22A9F404CD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270EA-0DDA-45FE-A689-2499EF91D75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C2196-8F0C-459A-A579-4AC26278B3F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EDCF6-B2A8-426A-8D9E-E12D26A3A4B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CE618A-9723-4681-B7A7-1C6812974D7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588D6-4A98-4D2B-B9FE-950BFD0D305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3D934-B267-40A7-A791-0D762B74943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5773E4-B493-4F74-9DD1-4CA5C359F7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2B22-3DFE-4774-A17D-29CDC3EBF5A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2A2C8-D77F-4596-B143-35CFBBA020A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D2DEC-9D13-4B2A-B07D-B21C410C8CC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F3627-FA85-49A7-8C9D-7F18F860739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784B4-F162-4CFC-AA6A-C4BA88B1130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5C26-6170-45B8-97C3-B6065FAC68B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214F6-3311-41C1-8005-14CB12EA325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E0FFF-7508-48AE-A04B-A43134A402F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D957C-2A86-49E1-A72B-9D72E22D924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0F433-907B-4B8D-84E7-93E8C654578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973DD-DFBD-40EF-80D4-3AAFA1CFFC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78E-6AE3-4C4E-BF7B-DA3F1177A32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6E67D-C674-48B1-831E-62497FD0F56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5430F-9B76-4541-B5A1-CF652615F9D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F9185-FEEB-4CE1-82EB-A165153519D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3E877D-8952-495F-A0A2-5C4FEEE3B4A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0FC8F7-7471-4C99-84FF-F8081C0A2CF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348E0E-429D-4DAA-872E-DFC5673999D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8847A8-4FBF-4545-A3DB-FA0B4C0E40F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8157DB-0DD8-4B73-A020-4139B5D2E6F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CB3C19-67A7-40D8-B84C-2708316EE9C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7ABDB8-07FC-4D4D-9A85-04E2A460BA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A49-A1B8-42A0-AA4E-A628E108115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B57A26-618F-44AB-8E95-A976EDBDD17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0C2EF4-B153-4BCF-A1DC-B11F24D185B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863DBA-0A04-4720-BFF7-28D1B1C2CF6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E162D4-E44F-4EAB-9BE6-6B11C51CFDA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C2F3F1-3935-4152-95ED-4CC65D41C8C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5E67D5-CB49-4C10-8D4F-308D999D98D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09F148-AACB-4890-AD3B-666323F4F96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03D20-D009-4949-8E6D-4F782EDD35B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5E6A8-E3F8-4CE5-B815-79A354695BF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D9412-802C-4CF7-A328-345A8DF4FF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636-147F-452B-9F0D-F7F1D8F0FC8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6B43C6-0D8B-443C-A181-D793B42A697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4CF349-1744-47B6-8DC1-146D6FB31F4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8E8EFC-8194-4FD8-AB94-AEC54D66651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CCAAB-6EEB-4641-BABC-19CE84C0E73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5276D-F52D-4633-9EF6-FC7D6085C3B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00E44-9DC7-413F-A050-01DA429BCFF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B97C73-59B2-4F67-8E99-2C8A6554536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86C2F-668C-44B1-AE74-7F0088EFF6C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FB9D4-51ED-403C-B5EA-9913470308F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2C052-B205-4B7B-A9A3-A8E859D267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651-2CC7-4571-9BA5-1360EE66C3F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CAA40-B756-4848-8D8E-718E4BBFD63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F1CD9-593B-43A4-B5AA-69DAE0766D2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59961-A933-4CC9-B992-4E6D7FCCD35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89B6A-1643-440E-87F5-1CE00C95A7E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F63F7-8093-4F15-B4AA-1E5B05B0802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804EA-516B-42B3-8859-303DABA48E5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18F1C-1FA1-4EAD-81F4-CF6F3F8330F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B7769-8103-4E86-A669-ADA6B7E16BE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190A3-8B6E-4726-A752-6272A4040C2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37142-6CE9-4EB2-A8BB-44C7E87640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FAD-5B5A-413A-B5F1-035926D25EA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27011-7D56-497A-A7F2-42FA9AFAA9B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F9164-8365-4AA6-A48E-395F11B2356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5212E-27F5-4301-8421-62AFA945E0C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05A54-0171-4E59-B8BF-BAA797C6DD0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A6100-1992-4EEF-816D-C44D2297DFB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3CACB-5AFA-482A-B675-FF0CC162A1F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3A7FA-E21A-4EAA-808C-D63F18A1DD1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269E8-C3FE-46AA-849F-00D41E2168E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68C55-2550-4D21-BE17-FCA0F335F17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6CA4C-1509-44B8-9CA3-284306059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6330-2AB3-42D2-90ED-FDA378BB12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85D-E6FC-4BFC-85AE-14355C8EF24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F1F12-0C66-423D-A938-58453F221C3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E92311-8DE6-473E-A86B-2856EF7CB8E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4CD199-23BC-4CB2-ADE1-46DA528C78A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510D94-5DCB-46CC-9CDA-007A60CD085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F7D226-4F1F-4AC1-B0EB-33171386411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930362-362B-4A07-8606-B2B9C859BB2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632F92-56AA-4AC5-A061-5EDCC00FE91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3C8CB9-44D4-48F0-877F-8D7F4A65DD6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836929-5CB4-4CAC-9D61-E5123A6306C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535E3F-0137-43A8-9411-5583E030C2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F462-6163-404C-99FB-737CC0C0B86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5A2AFB-E6DD-4021-A472-AB245980287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BC478A-5CAA-4880-8C47-E1554348DAF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9406EF-D389-492A-A092-7BB50C707E1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6F8A0-7707-457A-A7AA-23F5ECB7AA9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5BD16-EFF5-4311-9060-51EF1330F1C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57BD6-622A-464F-B504-11703349838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C8B54-869D-42C3-8B29-73457DCC3D3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0BBC5-3098-4D41-A375-F52D5FB7A2F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3FDA9-81DE-42A2-8A52-11A22C1D0F9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6455F-ECD2-4140-A6C4-2C9D0FFDAE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2FC-5344-4C92-90E0-E6C0BB06BE0A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65BA0-C9AD-4C48-BF46-FCD2450322F8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DBB1E-1A45-4C86-8BDF-5C7BA1018C6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8942E-E431-4D29-A9BC-B3FA8D50595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8C5AB-1360-44A0-B4C8-D1F4745D5796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DAC1C-A443-44E2-91A0-0B315AFFE4D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691C26-308B-4CB9-B931-49FFCB0AEEAA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CE727-8BFB-4D06-9F0C-C372DBC1542E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006A3-71F9-48D4-8CCA-7AAC44EF9BF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D5D8C-4584-43D6-8AA3-DB249C3FDE5A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93FB5-1CC2-43B3-A004-61CE2C2BF5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BCA-7A23-41C0-AB40-3F4317F2A253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ED63D-F128-4C66-AEFC-3F15E17FB9AC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CDC14-88AC-49F8-AF5E-1E3C9B6C9A0B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7ECC4-83FC-4957-B7A9-79CE8326DBD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BBDF6-96C1-4D20-A41C-6ACCAD0E1164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F458D-37AC-4B8B-93FB-F13981BFA95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13FC4-916D-433B-A655-C0599D4BD1D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EBE62-09BD-40A4-8C06-E45F5374202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ACC6FC-E82F-47A4-A0C1-5905E389283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B3411D-2033-4D0B-A754-6604BD24986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EC1A21-80D5-4EE1-B767-C284B39951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F05-4823-4610-80F2-52BE79E30FBE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5ED3F8-49AD-41DC-8093-DF7D974F20FA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378B9E-9198-4016-81CD-8010C3E864E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B45102-1A30-440C-BA96-BF2F1E6C38D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44D22B-6033-4C35-AA36-6A2DC350E09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7C6861-3794-42D7-A36B-258A7BC97BC2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D303D8-0297-452D-9913-EC222BA6C9A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0F7CCB-975B-46E8-9AF0-3A4B7FCD33F7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BEE53C-3E2B-4EC2-B017-89CAA958473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84646F-429B-44BC-A18A-A3BEFB00614E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EE969-8302-4C22-AAFC-B2D50DF090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435-693D-427B-B0AD-8D2C6240DE4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673A0-7603-4B33-A455-8E0DB8CAB13C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9274B-37F1-4430-AA6F-9827A3EEDC37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10FEF-1AFD-4C25-A576-E102A940D732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665B4-C162-4930-BF61-3986F5351EE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29F8B-A1AD-46A1-B1CC-4612D8BF15A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FABE0-ACA9-4A73-A5E7-A712817F5A5F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E2AA1-4B6A-4FB5-B68E-432FEC16557F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CD149-FC7B-4A21-9E18-BE9269FD94A7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0C6D9-2FC8-400C-99BD-FFB857EC0F9F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882E0-8849-4133-AB14-2B41554923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A53-C5C5-4B44-AD14-A32BF427831C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57568-41A7-402D-A25F-378A180D5BA9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01923F-C3A4-4E54-AE88-46CEA55FCE66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E7E921-65AE-4A38-9C2C-7A9026E4CBE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7771E4-E5F6-4EFC-AAD9-95455528A170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8452D8-2B53-4AEA-AACF-6FF04600545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FD8471-6D05-4D48-B75E-720C372A235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D2432E-7A07-4553-9AF1-305707CC0EC1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5A3C87-E0B7-456B-9DC5-EE1E75E180A1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4A910C-E694-4C7F-9BDC-8CDB0817DC6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955C39-66D0-4562-AC17-AE991A3FFA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F54A5-A6E2-49BF-8C3A-711129A7F2B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4CC23A-8F35-492A-8CF8-84F4BBCE93A1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4C4D18-CFF9-4576-A4EF-17D12F576F8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0D5773-CE94-4825-900A-23B2EF2CCA4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14AB4A-9150-4B1F-9440-8522B9299EF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7EE77D-0CD6-4686-9ABF-4275CFB1DF3C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077314-C7DC-49CE-B5FC-B8E0775F7963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BA81B8-D829-4DC6-BB80-1E308B62976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F425DF-D6F0-4229-B14C-B5EEF5706E59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35FF77-FF64-4FDD-9ECA-0AA234738D2D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42D06F-8726-46F7-A27B-70417A13C6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2C90F-D928-40D9-89BE-383668FF24A4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961FCD-EC0C-4D88-AEB0-2262C8A87DA5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0F6395-4D81-4D92-B617-02B763F3D79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E4FF16-2FD0-4B99-B4F8-7B3ADB01A68C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B504FA-CCFE-4828-8FC0-9A34A7693B23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12E5B5-7300-45E1-B055-24258A68AB1B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607D1-CBA1-4A17-B7DC-DE6064238B02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9DA0A-BED8-448D-B415-D7621D647FB3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7C094-858C-42FF-806E-4DEA7F0AB28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B8A1F-13BF-4C83-9B74-904A378AC5C6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D5A9F-0806-4D18-9CA5-A1AFDDFBF9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DC89A-3FAC-4C19-A847-3E1B3D6AFB1C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26551-2C90-4923-BCFE-7B28BFC8010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83641-D725-4FEA-9B94-B1B5E1CA3319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EF066-8053-4B6E-9324-4E51FA1DE758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F7B4E-F14F-4A7B-BF73-F67559600BD6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559AE-CF18-4165-A56A-6B5E51316D56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CA9D5-9EC7-475F-85B8-77D27B298E00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397D6-C654-4FCB-B442-60AE1D909E3B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E343E-5480-4707-95AE-138A9365C74D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7693D-E42D-4B09-BCF5-687169170D62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FFA93-EEA7-4259-8808-4CBDEDB90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B537-D4D6-484F-9BA2-A12FC970CB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F028F-8775-4945-891B-E34B3022595F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9B28B-62E7-4594-9F5B-0A3E296E8DF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47B8C-1054-4EA7-B4A3-581877747DCE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1BFEA-A481-4CB1-8F85-AF62C2B8A80F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6C7E3-948B-4069-9917-4D3D8437CD7A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7DE8D-23E6-461C-8FC6-43211F86292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4FC77-33FA-462E-B0A5-FE1DFBFC92D5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A85F0-59C3-4A51-BA0A-A871ADD22EFE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04B00-7469-44A4-A048-DA595996ACE1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428F0-F2A6-459F-A3C5-5848F335DC2B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F162F3-3A45-47EA-8993-1E0B4FBE59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A101C-8C0B-48AA-BBC1-8B928E17F475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34D380-D056-45D2-A058-DC9D59DB8BFD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355FF7-C5B5-42D1-8FED-DB7D822C51DA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2825B8-D12F-4023-B22C-FB539EED699F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335CF0-A828-4C75-8889-2C1A2DE36009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8BF171-B104-45A4-952C-EC164D4A465D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43F324-96F2-4DB1-9099-3FF15B1CC6F3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2194F5-31AF-4F29-84D5-97947238855F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64E12F-70F7-4D6D-9CEE-04DA146E80E1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9793A2-43E1-44E9-97BE-88222EB509C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F8E494-7441-401B-B10D-6457BA676D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8FABD-5277-4321-B184-089A3FEE77FB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879D3F-FF49-4552-9116-23146184FDFF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05B25-339F-4FC3-B670-605F308F9E6B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A4B56-7A5C-4A4F-93D4-9C8F0ADC0B02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4408B-D662-4918-97D2-E0101196E325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89380-6952-4F26-BA9D-DA4F32DCB0EA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5B9C0-31C1-407F-8EFF-0CC11466573B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67546-D5C1-446E-B5DF-5AC808C10E16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E7015-38F0-47E4-9390-8FAF9340BE90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F0952-0522-49BB-95FA-24833D032F51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589E7-090F-4958-8973-8A1D2C5CD4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40F67-D584-4B59-A04D-DB3175ACD195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281DE-7F52-4BCE-9EA7-E55C9106A0BB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E52F8-2364-444F-9067-F13AB5770031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C5D93-E7DB-4B1D-AD15-35646860E60C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897388-1676-44A0-908B-5ECC7FC2DA3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282E00-C382-48FB-8C19-E42BA2C96F1B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BD2592-C503-47DE-AA8F-15582E9991C4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63E759-6937-48B2-97DE-C54F669A3C69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714D6D-DBDB-42F4-B7C3-670B67A0E13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CF6B49-5A11-4A8B-8F9B-643B9C8BFC2D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2158A0-6220-449F-96D1-ADB5061E11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4C560-F2EB-4FBB-A219-EB07B9A8B548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AD3BAA-CE50-4390-9902-53E34F1E0A1D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3348B91-5E6F-4332-BCDE-ABB0D5ECEB23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F84C8E-D2F5-4FA5-B5B2-E8BC1643CD76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2CFE5B-3A14-449D-BC2A-C008E4817A3F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44C61E-5371-4C0F-939E-A7C19CCEF44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49D69D-FDDE-4C53-8D4B-B9C4B14C1B5E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2407C7-C7D8-48C3-A4F7-A4370328905A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01B3E6-504C-45D8-A3BE-144999F09B58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B209CF-F579-45D3-AE43-572BB31A4D61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654556-769C-40B8-B911-F556FBC0F2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4FC6-3457-4EDB-AF61-77F1E738294F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3AB478-8A31-4A61-95F0-4B623ABEE017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D5897A-FAA1-4726-90C7-6F26F15DCA53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367C8C-8C46-491E-B8C4-14FF051AC521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3A4977-E321-4CFA-97FE-1D5763D39A7D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178EC9-5B98-4D70-8338-F5C447E728B8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84E2EE-F2B3-4916-A265-8EA5240CCC58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9A87B9-2825-42E0-85BE-978C4859175D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D6EC9-2164-4DC7-8961-7A1C245AD2A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D0FE7-0A6A-4060-BD8D-4E656EEF97C2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43D90-884B-428C-9082-39504CBC75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E30CB-D1ED-465F-A6FC-FE8FD703FB1F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AEE3D-74F7-499E-899F-FF692BC5FB26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F787C-E0E5-4F2B-9E61-D2060CBE5B8D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618EC-48C7-40C3-96E6-4EB6281D7794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C40CA-5806-4302-A0A3-66968968ED51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7EA19-4E5D-49EA-B9DA-77983E0A4330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05234-4C67-4EB6-B3C8-FC5F60A6ED98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8F1CC-9647-4D5A-8CA5-CDE6107EAB2F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67472-D922-4A59-89E3-0E51E1F55FDE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03C9E-F9F7-4623-8B94-BA927982B19F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739B97-1472-41D2-BCC7-BB2AA54914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F08AF-774A-4972-AF17-9ED8ADFF9395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17C677-DB80-49C9-9716-1E992C97DE37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AD882C-43E7-472F-9DAB-31BE728C3E99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7BFFEB-94A5-4E1C-B050-29A6521532D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3A0D03-EDF0-42B9-A06D-08387BD4F5F0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F3EDA5-BF8B-4C03-A26F-1FE68C5A0D15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76EBD4-CEC2-4540-A3FB-88C06C4F4E01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5BBF76-CA46-4EE3-AE47-09F6515DB248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93D734-E7CC-44E5-A9D0-4EE30E4A07CA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F6464F-1144-47C0-BDD6-1DB74517BDB2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D31853-3A0F-4BCA-9D5D-3C4F5CFB9C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6190F-F799-42E5-BEFD-B53EC6F9ACB2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CAA727-5544-48E7-8E0A-DFA1F52DDE7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DC689F-ED89-40E2-ACFE-5AE677AB115D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FEB306-8EA0-49DA-98D9-61BE46C08631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AE962B-1FB1-43E6-AF6B-A09278326B08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26C39A-3CF8-492C-A171-1C706C3527F9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2A5B55-881C-45C8-ABD8-79EEB7337A08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8EFDD0-9248-4E25-9EB2-42D97E869613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0F9429-B780-460A-B1A1-60D28476EEB6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B79AEB-98CF-4E62-8523-733BD1D5F0D5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175C58-0F4B-487F-9FB3-2EF39DBB6B6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730E5-672D-416D-89BD-2A705D9AF37C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C04C6D-1FBE-4046-A54C-F95BADCFC1D3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F4813B-CB8E-41E8-97AE-89864184752C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B87796-F192-414A-ABAE-CD954E62ECD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27085-8D50-443D-89A6-95607AE120ED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AE5D0-37A9-4FE0-88D1-F27B170F9E9C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42812-A734-4F96-BBBC-12E0E142D0A6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0BD02E-04AB-48D1-88B6-CB88CA1728CF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025F2-A769-4714-9863-0BC4E37080DD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FE2A3-C690-4B54-BEA9-A66DB647F503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4BB89-1710-4539-9804-B23EFFEF1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10CE-BB28-406E-9DBE-096AF0766D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9D6E4-9984-41E7-A237-7ECF72E34A54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4924A-490F-400C-8D9B-88B917CBC00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3852A-57F0-4880-A749-A93629FEE449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0D66D-6226-4B59-BB6B-46E13B908084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5D6B94-1140-4B77-B869-C9B310A27640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28E45-332E-4352-8C0C-228A6E8BF26E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321DFD-1F3B-4705-800A-ADC4212E144D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FFD2C78-E061-4AF8-BBE8-6DCBF6220261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17ED09-A7CD-4102-ADDB-B34E175C954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082C78-666A-4585-BDC5-275B879F61A2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A8E812-9C57-4BF9-96A6-DCA0D9AE559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547C2-7E9F-4A04-83D0-DBA8621E15E8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54E118-3E2B-45EF-A702-46B406F5850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86DA473-F917-48DA-8444-60AC447BE7D9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4B224C-22AD-4EEA-9821-47FDDF2108E3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1C89D9-48DF-49D8-8602-231C2AA609A7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6D29C1-7DD1-4C0D-8DF1-C4AFC93EB7FE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E9A593-6DEF-4D49-92E6-58F7C7E655D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9CB8BC-4E2B-4014-BC33-3D2E7222664C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EEA96D-0E84-4640-847D-248FF540FC81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93568D-BDE7-4C0B-BCB1-F221AEFB2BE1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BDC158-5B5E-4667-AA18-611AA5C9793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A3A81-CEF8-4323-A3BA-672771BC1C6E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B0D27B-6CDD-4571-9D17-E78C9E851B47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1CAF07-14F9-45E9-86EB-410F58E3F021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240853-5E56-457D-A70A-2504FB64FAF3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44627C-256F-4EE4-AD3D-180F4103A262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645A60-EB2C-423F-AB53-856C19322A93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303365-FE78-4F84-9EAF-9DF716709B14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FD734F-FA67-4C39-AFCE-F1C0D13D4754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172D2A-8E6C-4D71-9FF1-B492C2AC21B7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64C37B-069E-4EB5-82F1-D74778ACCEA3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DBC48-664F-454C-8B62-0E41448221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064E9-9A69-44E6-80BA-6CC786DD26AC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D2174-D640-4E5B-B8C2-CF64B3A46CE3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CEF6D-CFD6-4B8D-8EE0-56B4415AC1ED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0C6AE-E907-435F-BA1E-CD0319A11E2F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0F0E6-E619-437E-9A5A-E9673D6F712A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3D7CD-D3C9-4F01-8EAF-2FBE21F5112F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630C3-4DEB-4881-B69F-2B48195FC442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187DA-151A-4D93-A23C-DEAE3F4FE87C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21AFF-EED4-4D62-9913-5F622F51A39B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0FF5D-56FE-4592-B095-9F13BDFE9D8C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D4556-CE14-4711-B1EC-CFF4673070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93688-65C6-4C8B-BD59-FA53AA692015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933BC-B0A5-4E8A-B288-062DFCF709F0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4E8A369-87B0-45CE-B3ED-3BF607BE7A14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9952FD-B12D-4088-85D0-E2CD2FE02C4B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66B042C-1E10-404A-8C7A-C4DD0E1198DC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30BA87-B6B0-44C2-8CD9-DA74E944F8D9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EBF17CE-B7A5-4A1C-AF13-1305CA545FB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3AC197F-37F2-43D8-A198-AC87E7A148E6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8B3BF8-E766-4FE1-8373-672297775788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5268D1-D645-4F7D-BA62-C4D42D2A1681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8EC5EA7-A1BB-4AE3-A39A-4C334D3BDB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3A0B9-8DE5-42B4-8728-D7C695B2139E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360750-008B-4CE5-B166-A412618E3C04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6321AF-0FC0-4486-B295-DD83530E7FD4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B0889C-58D4-4A6E-A73A-7BF7BDC632A5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CD94DF-8070-4478-87A2-558D855F1205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33E066-C6E8-4A73-B561-39CF9C7FD9A3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1755C9-43CE-45AC-AC04-EE83683FC38A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F10115-A044-45F9-BED7-77201F6EFF7A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86ABF3-B602-4E4E-9329-EBE1FF490CC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980F91-0E07-49F0-9B7D-4F09929714E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A282F3-EC00-48A3-B9F9-B3D5069E46E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309BE-1E2F-41D8-8BC9-8E320631B373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EE9968-0A65-4549-BD9D-FD33661C5E75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081A57-73B3-4435-904E-0E8119C69BE7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777B0A-CB69-4366-85D7-4E603A742396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9C925E-08A7-436B-9E78-987E08A605B6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0F26EB-7798-43B3-9456-43018087968C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A1AF2-9B78-4E07-8A9F-1F3B58045B6A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DC23E-3FE0-4BFE-97CD-51FED7DF8A06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F2D6A-F101-4EFD-A696-B10B829A9844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B5544-9F36-4CCB-BDD5-99BA193F958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10D05-8477-4C0E-ADCA-9E83555774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93CD1-E3DA-48E3-BC5A-E80135A7F3E2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C7548-9B54-4495-A939-6EA65A3628DE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E1AEA-10DA-4F71-BA51-3362819E020A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D9C22-F339-4E8B-9EBD-D91D7D7A6F0E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1CB967-E4BE-4AC1-A23C-5D16AE33A500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CABBB3-FA80-475A-8E2D-4F06D52A4DF6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A7F9F-9C34-49AB-B7C0-9F4B355FFBDA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50D62-E4DD-479D-AF37-234F82E3A6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3D586-5DF9-4BFB-B761-1AF94A3F749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7D335-22A5-4A38-B372-EC6103AFD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DD17-D292-4055-A681-AF44ABADBDC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85AAD-9345-4AC4-BFE9-721EC641DFC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9C1C-F1EF-4F3B-88B4-37242EF5687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9B13-15C2-48DB-B005-AB7EF1AD4E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E7FE-FC52-4BCE-8BE8-5CF257F56A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7326-F5AE-4D56-97A6-3D732A44A42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2367-9921-48A6-9733-91DB3221828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BC8C-5225-4B47-B9CE-0D1D78B867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8614-35C8-4EBB-B333-07A7488994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9383-E093-4B52-AA22-FC3971AA74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F594-2022-40B2-A6E4-002AC7521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4323-5B08-408C-8F26-55A5F1C97F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090D-F106-4635-B609-77A07A541F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B80F-4486-4B8A-9B62-9F561152382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9A26-A858-4ACA-AAB5-A3D1E067AE7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367790-F91D-4ED9-8B03-EBE72473C4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16ADF-D768-4C54-8A08-F8A1FE366E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F49822-2C2E-4A45-8555-461D33AADB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08CFB-A21B-4B5A-A018-4F73F35993A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343C5-C42B-4DDE-9968-D8E2BF4870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E0A1A0-EEC5-4FA4-8783-BF5C39D5AD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68C06F-55B9-4549-8588-0754DAAB9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D3CF-AA8B-4397-A4C9-EA6DBAD849A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2B82D-80B9-4018-B992-238ED6356C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BA892-E978-4553-92B3-18A547CC21A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5129F-EAEC-4D13-AFA3-49BC12808D0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21426-984F-4808-9AE5-6AD398C306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4D3F1-53E4-4754-AA5A-4C6E204378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835DE-F597-4F75-B2CA-A4F90167DC3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0D58D-CE7B-44E1-95B4-D7AEEAC4713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F71B2-1E7C-402C-89D5-D0ADE0847C1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7F857-C607-419A-A5EE-457E44D995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2B7CB-338B-430E-928C-11A8ECA4E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A3FC-3D20-4ED7-8C03-4680B8A4E70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B00B4-C135-4104-B815-DBE1E35F725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BFEB9-533F-4848-9B66-9F08E4989B4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9F22D-6E10-4050-BFA8-E06BE97AC79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967F3-F012-44A4-88F3-15233AF4861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9A790-C125-4EE9-9561-E94D7DC1B69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235BA-4346-4903-8EA8-C73700310DA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1928F-EE14-473C-8DEF-5E323719C28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D724-4232-4302-B49C-B37870EC75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9305-64C5-4915-937E-EB3E80ADDBD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38D3-8825-4217-BEB0-F1713860F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9C469-F0FA-49BC-9B38-75CEEDA0EA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31C46-2B0C-4289-8FAA-8D457A78502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C9E6F-E32A-4786-95EA-88D20373740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B92DD-030E-4420-B391-BF29530517A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9F848-236D-43F0-BDD4-22E256A2E6C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FBE8C-6649-4D8A-91AE-083D8404819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2FEAA-9E0E-4773-B2F7-A23C9575FB3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DE371-CC9C-4649-9F79-7A3CF42A75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416E2-4AA2-446D-B1BB-6E7C6AFB86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F0043-50F1-4E5E-B5C9-2239555B7A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C07EE-64D8-4DB9-B13D-4BD00C4E28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0D775-0A75-4763-8D0C-C9A4214FB0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04F21-3DEC-4385-B9FC-7D60B3A8EB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578C4-4229-4D1A-90B5-B4A7E14908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C1C21-B728-44DC-8757-05F2D81E9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1308B-7800-4B76-9FE4-34AD71A35A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F6488-8751-40F5-8166-C22BA7D5BE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F2A44-9625-432C-8444-3F5DC7679C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F2131-0B9B-4DF0-9EE5-334417B567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FC5B1-0696-438E-82DD-A2D63A840D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34872-299E-40F8-9956-FBF5DDA6D7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6C697-9D72-4DA2-B9F5-4332EF9E89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7B4CB-17D7-427F-A28F-9B7E01BBFC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B2F15-4967-4BFD-8EA2-CE6EAAF3C7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24A06-545F-4F9E-A672-5B39E43ABD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FEA76-8A9A-4BD3-8BAF-62ADDEEEA0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4FA58-2BB6-4EF5-8104-08111DBE77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2F542-6B0F-4A54-B5FB-241D165971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sldNum" idx="3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53F3E-71A0-4391-88F0-4171BDA71A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45FA9-5087-4482-B984-B9189EA3DB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3FA37-6702-4DE8-B085-2AA8CB0FC2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714DB-6CB2-4351-BE0B-501B43BF0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A37F9-B7D3-4943-B09B-674733285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A9B70-5CF4-4BD4-B63D-DE1FB191D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92520-47AE-4FAF-8942-ECE659F01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2C508-1E5D-40DD-8513-59A6449D7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7C835-AD97-4269-8B8B-FA2186F54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7063A-478D-467F-B18C-E3B50B613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EBE48-EAC7-48D6-A824-8B6A2FFF9D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45E05-42B2-4EE4-A448-1D87E3934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F5620-0C4B-492F-83D6-EA22F0FCF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8A678-1151-4F12-9FDD-DBC1839B8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1DD6F-7236-4DF1-987D-98E491AE7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76D8F-6584-479F-8C23-984466B77D2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8B6DD-7C9A-4D7D-8B82-F2796CB1840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39685-F043-4B19-83DD-D4061A545B4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8B927-8446-499E-B573-15CED2BDFB2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A7B8F-BC48-497B-BF48-7FEC9EDF6EF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5" name="Picture 1" descr=""/>
          <p:cNvPicPr/>
          <p:nvPr/>
        </p:nvPicPr>
        <p:blipFill>
          <a:blip r:embed="rId1"/>
          <a:stretch/>
        </p:blipFill>
        <p:spPr>
          <a:xfrm>
            <a:off x="406440" y="420840"/>
            <a:ext cx="8280360" cy="6129360"/>
          </a:xfrm>
          <a:prstGeom prst="rect">
            <a:avLst/>
          </a:prstGeom>
          <a:ln w="0">
            <a:noFill/>
          </a:ln>
        </p:spPr>
      </p:pic>
      <p:sp>
        <p:nvSpPr>
          <p:cNvPr id="1986" name="Text Box 2"/>
          <p:cNvSpPr/>
          <p:nvPr/>
        </p:nvSpPr>
        <p:spPr>
          <a:xfrm>
            <a:off x="682560" y="38577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611280" y="1268280"/>
            <a:ext cx="7915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ADEMIC STUDIES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MEDICINE AND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34CCE-9448-43FD-9D18-1947BF725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General recommendations for physical tra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Text Box 2"/>
          <p:cNvSpPr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ctivity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50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 min weekl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optimally 3-4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 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art with </a:t>
            </a:r>
            <a:r>
              <a:rPr b="1" lang="sr-CS" sz="2400" spc="-1" strike="noStrike" u="sng">
                <a:solidFill>
                  <a:srgbClr val="ff0000"/>
                </a:solidFill>
                <a:uFillTx/>
                <a:latin typeface="Calibri"/>
              </a:rPr>
              <a:t>50%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maximum physical load or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nd increase gradually 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o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nergy consumption from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000-2000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Kcal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dequate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raining dos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breathing rate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6-9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сardiac </a:t>
            </a:r>
            <a:r>
              <a:rPr b="1" lang="el-GR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γ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not over than 10-12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systolic blood pressur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40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mH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22B5E-F7E5-42E2-8793-A9B737D0C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Text Box 1"/>
          <p:cNvSpPr/>
          <p:nvPr/>
        </p:nvSpPr>
        <p:spPr>
          <a:xfrm>
            <a:off x="250920" y="125280"/>
            <a:ext cx="817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habilitation of patients withacute myocardial infar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Text Box 2"/>
          <p:cNvSpPr/>
          <p:nvPr/>
        </p:nvSpPr>
        <p:spPr>
          <a:xfrm>
            <a:off x="468360" y="1484280"/>
            <a:ext cx="8207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1951 a new era in cardiovasclar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 then it was believed that after a myocardial infarction а patient needed absolute rest in duration of at least 6 weeks (it takes 6 weeks for a fibrotic scar to form at the site of infar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believed that physical activity in the early phase after the acute myocardial infarction may cause dilation, or formation of a ventricular aneurysm or heart rup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A830E-BF0B-4DAA-803F-3EDBDAD4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Text Box 1"/>
          <p:cNvSpPr/>
          <p:nvPr/>
        </p:nvSpPr>
        <p:spPr>
          <a:xfrm>
            <a:off x="250920" y="404640"/>
            <a:ext cx="864216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iteria for starting the rehabiliation pro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Text Box 2"/>
          <p:cNvSpPr/>
          <p:nvPr/>
        </p:nvSpPr>
        <p:spPr>
          <a:xfrm>
            <a:off x="468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signs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u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hyth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mboembo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690A0-8978-4D93-8C31-0E19A3C1F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zyme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crease of CPK level is important for the beginning of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F9902-6770-4152-922F-82117BA3B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1" name="Group 4"/>
          <p:cNvGrpSpPr/>
          <p:nvPr/>
        </p:nvGrpSpPr>
        <p:grpSpPr>
          <a:xfrm>
            <a:off x="900000" y="1628640"/>
            <a:ext cx="7328160" cy="3629160"/>
            <a:chOff x="900000" y="1628640"/>
            <a:chExt cx="7328160" cy="3629160"/>
          </a:xfrm>
        </p:grpSpPr>
        <p:sp>
          <p:nvSpPr>
            <p:cNvPr id="2072" name="Rectangle 5"/>
            <p:cNvSpPr/>
            <p:nvPr/>
          </p:nvSpPr>
          <p:spPr>
            <a:xfrm>
              <a:off x="900000" y="1628640"/>
              <a:ext cx="182052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ZY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Rectangle 6"/>
            <p:cNvSpPr/>
            <p:nvPr/>
          </p:nvSpPr>
          <p:spPr>
            <a:xfrm>
              <a:off x="27345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FTER THE ONSET OF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Rectangle 7"/>
            <p:cNvSpPr/>
            <p:nvPr/>
          </p:nvSpPr>
          <p:spPr>
            <a:xfrm>
              <a:off x="45633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x 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Rectangle 8"/>
            <p:cNvSpPr/>
            <p:nvPr/>
          </p:nvSpPr>
          <p:spPr>
            <a:xfrm>
              <a:off x="639324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RMALIZATION AFTER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Rectangle 9"/>
            <p:cNvSpPr/>
            <p:nvPr/>
          </p:nvSpPr>
          <p:spPr>
            <a:xfrm>
              <a:off x="900000" y="2926800"/>
              <a:ext cx="182052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P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Rectangle 10"/>
            <p:cNvSpPr/>
            <p:nvPr/>
          </p:nvSpPr>
          <p:spPr>
            <a:xfrm>
              <a:off x="27345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Rectangle 11"/>
            <p:cNvSpPr/>
            <p:nvPr/>
          </p:nvSpPr>
          <p:spPr>
            <a:xfrm>
              <a:off x="45633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after 24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Rectangle 12"/>
            <p:cNvSpPr/>
            <p:nvPr/>
          </p:nvSpPr>
          <p:spPr>
            <a:xfrm>
              <a:off x="639324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Rectangle 13"/>
            <p:cNvSpPr/>
            <p:nvPr/>
          </p:nvSpPr>
          <p:spPr>
            <a:xfrm>
              <a:off x="900000" y="3821760"/>
              <a:ext cx="182052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T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Rectangle 14"/>
            <p:cNvSpPr/>
            <p:nvPr/>
          </p:nvSpPr>
          <p:spPr>
            <a:xfrm>
              <a:off x="27345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2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Rectangle 15"/>
            <p:cNvSpPr/>
            <p:nvPr/>
          </p:nvSpPr>
          <p:spPr>
            <a:xfrm>
              <a:off x="45633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8-3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Rectangle 16"/>
            <p:cNvSpPr/>
            <p:nvPr/>
          </p:nvSpPr>
          <p:spPr>
            <a:xfrm>
              <a:off x="639324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Rectangle 17"/>
            <p:cNvSpPr/>
            <p:nvPr/>
          </p:nvSpPr>
          <p:spPr>
            <a:xfrm>
              <a:off x="900000" y="4348800"/>
              <a:ext cx="182052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Rectangle 18"/>
            <p:cNvSpPr/>
            <p:nvPr/>
          </p:nvSpPr>
          <p:spPr>
            <a:xfrm>
              <a:off x="27345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4-48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Rectangle 19"/>
            <p:cNvSpPr/>
            <p:nvPr/>
          </p:nvSpPr>
          <p:spPr>
            <a:xfrm>
              <a:off x="45633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5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Rectangle 20"/>
            <p:cNvSpPr/>
            <p:nvPr/>
          </p:nvSpPr>
          <p:spPr>
            <a:xfrm>
              <a:off x="639324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21"/>
            <p:cNvSpPr/>
            <p:nvPr/>
          </p:nvSpPr>
          <p:spPr>
            <a:xfrm>
              <a:off x="27345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22"/>
            <p:cNvSpPr/>
            <p:nvPr/>
          </p:nvSpPr>
          <p:spPr>
            <a:xfrm>
              <a:off x="45633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23"/>
            <p:cNvSpPr/>
            <p:nvPr/>
          </p:nvSpPr>
          <p:spPr>
            <a:xfrm>
              <a:off x="639324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24"/>
            <p:cNvSpPr/>
            <p:nvPr/>
          </p:nvSpPr>
          <p:spPr>
            <a:xfrm>
              <a:off x="900000" y="2926800"/>
              <a:ext cx="7312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25"/>
            <p:cNvSpPr/>
            <p:nvPr/>
          </p:nvSpPr>
          <p:spPr>
            <a:xfrm>
              <a:off x="900000" y="382176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26"/>
            <p:cNvSpPr/>
            <p:nvPr/>
          </p:nvSpPr>
          <p:spPr>
            <a:xfrm>
              <a:off x="900000" y="4348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27"/>
            <p:cNvSpPr/>
            <p:nvPr/>
          </p:nvSpPr>
          <p:spPr>
            <a:xfrm>
              <a:off x="90000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Line 28"/>
            <p:cNvSpPr/>
            <p:nvPr/>
          </p:nvSpPr>
          <p:spPr>
            <a:xfrm>
              <a:off x="82281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29"/>
            <p:cNvSpPr/>
            <p:nvPr/>
          </p:nvSpPr>
          <p:spPr>
            <a:xfrm>
              <a:off x="900000" y="162864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0"/>
            <p:cNvSpPr/>
            <p:nvPr/>
          </p:nvSpPr>
          <p:spPr>
            <a:xfrm>
              <a:off x="900000" y="5257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ameters which indicate the presence of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Text Box 2"/>
          <p:cNvSpPr/>
          <p:nvPr/>
        </p:nvSpPr>
        <p:spPr>
          <a:xfrm>
            <a:off x="560520" y="1484280"/>
            <a:ext cx="8218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 Duration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nginal pa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than 30 min (pain can be manifested in the precordium, jaw, shoulder, neck, fingers, abdomen, left arm tingling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CG chang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 elevation/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&gt;1-2 mm, pathological Q-wave and negative T-wav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osit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iohumoral syndrome of  myocardial necr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creased level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B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r in bl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 elevation 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 is at least 2 times the upper limit of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17EF4-531A-44EC-832A-1E1CCDDA5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 for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Text Box 2"/>
          <p:cNvSpPr/>
          <p:nvPr/>
        </p:nvSpPr>
        <p:spPr>
          <a:xfrm>
            <a:off x="468360" y="1484280"/>
            <a:ext cx="8496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ENER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0/12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90/6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ach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2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rad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5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ebric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38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ndergoing process of receiving a blood or plasma transfu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49CA7-4486-4CDB-B274-55B21B643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ardiac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stable angina pector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insufficiency (decompensat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rhythm disorder (fibrilation, atrial or ventricular flutter, ventricular tachicardia, frequent and associated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 – ventricular extrasysto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 syndrome 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Т) etc;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a single 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of up to 5-6/mi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llow rehabili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ivity disorders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ick sinus syndrome, 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and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gree, bundle of His block  - bifascicular block);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lock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I degre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oes not represent a contraindication for K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E32F9-A727-44D4-B077-970281EE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Text Box 2"/>
          <p:cNvSpPr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myocarditis and pericard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olera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еrgometric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50 W, with occurrence of 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or elevation greater than 2 mm or clinical picture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nz-Me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gina pecto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in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rombophlebit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extremities or thrombosis within the cardiac cavity (thrombophlebitis and phlebothrombosis of the extremities are contraindications for КТh,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sitioning and mild manual mass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applied for lymph drainage; When applying a massage, it is necessary to use fibrinolytic ointments, such as heparin cream; alcohol compresses are also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69637-4D5D-4240-BC0C-0576022BA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 Box 2"/>
          <p:cNvSpPr/>
          <p:nvPr/>
        </p:nvSpPr>
        <p:spPr>
          <a:xfrm>
            <a:off x="468360" y="1484280"/>
            <a:ext cx="835164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-findings which indicate the increase of the left ventricle by more than 6 mm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postinfarction aneury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myocardial contractility – decrease of ejection phase below 40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orbid aortic anomalies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6EFD6-6D23-408D-83CC-C05744D32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Text Box 1"/>
          <p:cNvSpPr/>
          <p:nvPr/>
        </p:nvSpPr>
        <p:spPr>
          <a:xfrm>
            <a:off x="250920" y="44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Text Box 2"/>
          <p:cNvSpPr/>
          <p:nvPr/>
        </p:nvSpPr>
        <p:spPr>
          <a:xfrm>
            <a:off x="468360" y="1125360"/>
            <a:ext cx="7989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in psychophysical resting (psychomotor relax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nxie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res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mptoma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tor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s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ne and strengt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ic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rombophlebitis, hypostatic pneumonia and urinary infections (early mobiliz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of threshold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gin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the activi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diac pum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mulate the developmen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ateral cir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regulation of hear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brinolytic syst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ntiaggregation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monize the autonomous nervous system (catecholami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pid metabolis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f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norma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ba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-sty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ngthen the work and lifes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E238F-D750-4A4E-B876-C334608C6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 Box 2"/>
          <p:cNvSpPr/>
          <p:nvPr/>
        </p:nvSpPr>
        <p:spPr>
          <a:xfrm>
            <a:off x="468360" y="1557360"/>
            <a:ext cx="82296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 program of activities needed to ensure the best possible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physical, emotional and social wellbe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the cardiac patients for enabling them resume a normal life as much as possible within their family and community 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im of rehabilitatio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s the restoration of the transiently lost or diminished capacity for life and work, i.e. the prevention or decrease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disabilit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improvement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f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operly conducted cardiac rehabilitation decreases mortality by 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27 – 31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E2674-2D39-4BBD-BD2D-EE111CC7A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 process involves three ph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700F5-7C5A-4643-A0E2-7B1B5FDF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Text Box 3"/>
          <p:cNvSpPr/>
          <p:nvPr/>
        </p:nvSpPr>
        <p:spPr>
          <a:xfrm>
            <a:off x="179280" y="4076640"/>
            <a:ext cx="165600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surgical intensive-car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Text Box 4"/>
          <p:cNvSpPr/>
          <p:nvPr/>
        </p:nvSpPr>
        <p:spPr>
          <a:xfrm>
            <a:off x="4923000" y="3230640"/>
            <a:ext cx="1819080" cy="825120"/>
          </a:xfrm>
          <a:prstGeom prst="rect">
            <a:avLst/>
          </a:prstGeom>
          <a:solidFill>
            <a:srgbClr val="00b050"/>
          </a:solidFill>
          <a:ln cap="sq"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3-5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Text Box 5"/>
          <p:cNvSpPr/>
          <p:nvPr/>
        </p:nvSpPr>
        <p:spPr>
          <a:xfrm>
            <a:off x="4951440" y="4183200"/>
            <a:ext cx="1820880" cy="82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8-12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Text Box 6"/>
          <p:cNvSpPr/>
          <p:nvPr/>
        </p:nvSpPr>
        <p:spPr>
          <a:xfrm>
            <a:off x="179280" y="3214800"/>
            <a:ext cx="1656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o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Text Box 7"/>
          <p:cNvSpPr/>
          <p:nvPr/>
        </p:nvSpPr>
        <p:spPr>
          <a:xfrm>
            <a:off x="7308720" y="4071960"/>
            <a:ext cx="1366920" cy="6426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Text Box 8"/>
          <p:cNvSpPr/>
          <p:nvPr/>
        </p:nvSpPr>
        <p:spPr>
          <a:xfrm>
            <a:off x="7308720" y="3538440"/>
            <a:ext cx="1366920" cy="3682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 /f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Text Box 9"/>
          <p:cNvSpPr/>
          <p:nvPr/>
        </p:nvSpPr>
        <p:spPr>
          <a:xfrm>
            <a:off x="2195640" y="3639960"/>
            <a:ext cx="2301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logy/ Cardio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AutoShape 10"/>
          <p:cNvSpPr/>
          <p:nvPr/>
        </p:nvSpPr>
        <p:spPr>
          <a:xfrm>
            <a:off x="1835280" y="386064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AutoShape 11"/>
          <p:cNvSpPr/>
          <p:nvPr/>
        </p:nvSpPr>
        <p:spPr>
          <a:xfrm rot="19920000">
            <a:off x="4497480" y="358740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AutoShape 12"/>
          <p:cNvSpPr/>
          <p:nvPr/>
        </p:nvSpPr>
        <p:spPr>
          <a:xfrm rot="2340000">
            <a:off x="4541400" y="4128840"/>
            <a:ext cx="457200" cy="252360"/>
          </a:xfrm>
          <a:prstGeom prst="rightArrow">
            <a:avLst>
              <a:gd name="adj1" fmla="val 50000"/>
              <a:gd name="adj2" fmla="val 57068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AutoShape 13"/>
          <p:cNvSpPr/>
          <p:nvPr/>
        </p:nvSpPr>
        <p:spPr>
          <a:xfrm rot="2400000">
            <a:off x="6697440" y="3685680"/>
            <a:ext cx="457200" cy="254160"/>
          </a:xfrm>
          <a:prstGeom prst="rightArrow">
            <a:avLst>
              <a:gd name="adj1" fmla="val 50000"/>
              <a:gd name="adj2" fmla="val 57022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AutoShape 14"/>
          <p:cNvSpPr/>
          <p:nvPr/>
        </p:nvSpPr>
        <p:spPr>
          <a:xfrm rot="19440000">
            <a:off x="6721200" y="409572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Line 15"/>
          <p:cNvSpPr/>
          <p:nvPr/>
        </p:nvSpPr>
        <p:spPr>
          <a:xfrm>
            <a:off x="4554360" y="1916280"/>
            <a:ext cx="180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Line 16"/>
          <p:cNvSpPr/>
          <p:nvPr/>
        </p:nvSpPr>
        <p:spPr>
          <a:xfrm>
            <a:off x="7093080" y="1916280"/>
            <a:ext cx="144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Text Box 17"/>
          <p:cNvSpPr/>
          <p:nvPr/>
        </p:nvSpPr>
        <p:spPr>
          <a:xfrm>
            <a:off x="416520" y="147168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 phase of hospi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Text Box 18"/>
          <p:cNvSpPr/>
          <p:nvPr/>
        </p:nvSpPr>
        <p:spPr>
          <a:xfrm>
            <a:off x="725040" y="213372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cute and early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Text Box 19"/>
          <p:cNvSpPr/>
          <p:nvPr/>
        </p:nvSpPr>
        <p:spPr>
          <a:xfrm>
            <a:off x="4554360" y="1449360"/>
            <a:ext cx="236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phase of convalesc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Text Box 20"/>
          <p:cNvSpPr/>
          <p:nvPr/>
        </p:nvSpPr>
        <p:spPr>
          <a:xfrm>
            <a:off x="4737240" y="213372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ate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Text Box 21"/>
          <p:cNvSpPr/>
          <p:nvPr/>
        </p:nvSpPr>
        <p:spPr>
          <a:xfrm>
            <a:off x="7093080" y="1455840"/>
            <a:ext cx="20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phase of post-convales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Text Box 22"/>
          <p:cNvSpPr/>
          <p:nvPr/>
        </p:nvSpPr>
        <p:spPr>
          <a:xfrm>
            <a:off x="7183440" y="21337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maintenanc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Text Box 23"/>
          <p:cNvSpPr/>
          <p:nvPr/>
        </p:nvSpPr>
        <p:spPr>
          <a:xfrm>
            <a:off x="2320920" y="5357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Text Box 24"/>
          <p:cNvSpPr/>
          <p:nvPr/>
        </p:nvSpPr>
        <p:spPr>
          <a:xfrm>
            <a:off x="4572000" y="5429160"/>
            <a:ext cx="250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eks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(2-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monitored physical tra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psychological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Change of life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Text Box 25"/>
          <p:cNvSpPr/>
          <p:nvPr/>
        </p:nvSpPr>
        <p:spPr>
          <a:xfrm>
            <a:off x="7664400" y="5429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phase of hospit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Text Box 2"/>
          <p:cNvSpPr/>
          <p:nvPr/>
        </p:nvSpPr>
        <p:spPr>
          <a:xfrm>
            <a:off x="457200" y="1222200"/>
            <a:ext cx="813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e program should never be started earlier than 2 days after the occurrence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lly, it starts on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, but in practice, it is more often on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4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ginning of an exercise program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raining is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vidually dose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interval and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t always starts with progress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ax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Schultz and unforc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bdominal breath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bdominal type of breathing requires a smaller energy expendi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8587E-49AA-4A8E-ABDF-1B213F400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Text Box 2"/>
          <p:cNvSpPr/>
          <p:nvPr/>
        </p:nvSpPr>
        <p:spPr>
          <a:xfrm>
            <a:off x="468360" y="1484280"/>
            <a:ext cx="8351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lying position („а“; „b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seating position („а“; „b“ and „c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standing next to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V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walking in a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 day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walking along a corridor of up to 50 m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100-200 m of 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C30CE-05FA-488A-B7D5-78E66C5F4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Text Box 2"/>
          <p:cNvSpPr/>
          <p:nvPr/>
        </p:nvSpPr>
        <p:spPr>
          <a:xfrm>
            <a:off x="468360" y="1484280"/>
            <a:ext cx="8229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Mylin training staircase (it consists of 3 steps up and 3 steps down); the patient should repeat climbing up and down 5 times (training load corresponds to climbing stairs to the first floo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previous + limb-loaded ergometer cycl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477C9-D694-4EDE-9277-7E4DF76A4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Text Box 1"/>
          <p:cNvSpPr/>
          <p:nvPr/>
        </p:nvSpPr>
        <p:spPr>
          <a:xfrm>
            <a:off x="324000" y="1252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Text Box 2"/>
          <p:cNvSpPr/>
          <p:nvPr/>
        </p:nvSpPr>
        <p:spPr>
          <a:xfrm>
            <a:off x="46836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 with an early rehabilitation program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ized institu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ardiovascular rehabilit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olled physical training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breathing exercises and muscle shaping exercises; interval ergometer training; walk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sychological support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anxiety; depres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ducation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hygienic-dietray regime; risk fact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nge of lif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institutions provide continuation of physical activity which should b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90863-49E1-40FE-B408-D435AB8BE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Text Box 1"/>
          <p:cNvSpPr/>
          <p:nvPr/>
        </p:nvSpPr>
        <p:spPr>
          <a:xfrm>
            <a:off x="250920" y="484200"/>
            <a:ext cx="8569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phase – post-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Text Box 2"/>
          <p:cNvSpPr/>
          <p:nvPr/>
        </p:nvSpPr>
        <p:spPr>
          <a:xfrm>
            <a:off x="468360" y="1268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osed physical activity according to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ndersen's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. heart rate =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200 (210) – years of lif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±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maximal frequency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0-80% HR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07791-3386-4573-BE66-1BA6642D9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Text Box 1"/>
          <p:cNvSpPr/>
          <p:nvPr/>
        </p:nvSpPr>
        <p:spPr>
          <a:xfrm>
            <a:off x="324000" y="404640"/>
            <a:ext cx="8496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for discontinuation of КТh program after 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Text Box 2"/>
          <p:cNvSpPr/>
          <p:nvPr/>
        </p:nvSpPr>
        <p:spPr>
          <a:xfrm>
            <a:off x="365040" y="1484280"/>
            <a:ext cx="847404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chycardi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30 /m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a 30% increase in comparison with the resting perio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dosed exercise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decrease the volume and intensity of exercises or discontinue the training for a wh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80/120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mm H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permitted increase of  АТ and PULSE is up to 30% of the value at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rythm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in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ling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rtness of brea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getting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dd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leness or cyan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sudden decrease of ТА and pulse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9D304-FA8C-4203-86FF-C100ED27E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ext Box 1"/>
          <p:cNvSpPr/>
          <p:nvPr/>
        </p:nvSpPr>
        <p:spPr>
          <a:xfrm>
            <a:off x="25092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mportance of early rehabilitation after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Text Box 2"/>
          <p:cNvSpPr/>
          <p:nvPr/>
        </p:nvSpPr>
        <p:spPr>
          <a:xfrm>
            <a:off x="468360" y="981000"/>
            <a:ext cx="8529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systolic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lse ra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need f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the myocardiu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iglyceride leve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seru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e of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LD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tio in favour of protective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the coronary flow and improved formation of the collater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ronary blood flo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e occurrence of the lung atelectasis and hypostatic pneumoni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romboembolic com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brinolytic activ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nxiety and depressive manifestat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hospital leng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physical and professional dis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bidity and mortality r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c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5306B-C55D-4EDD-BE01-3F06E64A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Text Box 1"/>
          <p:cNvSpPr/>
          <p:nvPr/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Rehabilitation of pulmonary pati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Respiratory rehabilita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0E45D-8DB7-4354-9A65-D94CA9253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Text Box 1"/>
          <p:cNvSpPr/>
          <p:nvPr/>
        </p:nvSpPr>
        <p:spPr>
          <a:xfrm>
            <a:off x="250920" y="561960"/>
            <a:ext cx="856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Text Box 2"/>
          <p:cNvSpPr/>
          <p:nvPr/>
        </p:nvSpPr>
        <p:spPr>
          <a:xfrm>
            <a:off x="468360" y="1484280"/>
            <a:ext cx="82184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ulmonary rehabilitation is defined as an evidence-based,   multidisciplinary, comprehensiv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exercise and educ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progra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esigned to reduce symptoms of COPD, which restrict  daily life of these patients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hile being integrated in the individual patient treatment, pulmonary rehabilitation has been designed to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sympto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maintain the functional stat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increase active particip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patients and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cos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in healthcare through stabilization of systemic manifestations of this disease.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Common working groups of European Respiratory Society (ЕRS) and American Thoracic Society (АТS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852C0-37D9-49E1-92F9-411355510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dications for cardiovascular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CC1A1-F282-4ACF-B88C-00EFC4709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Rectangle 3"/>
          <p:cNvSpPr/>
          <p:nvPr/>
        </p:nvSpPr>
        <p:spPr>
          <a:xfrm>
            <a:off x="4127400" y="191628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yocardial infar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Rectangle 4"/>
          <p:cNvSpPr/>
          <p:nvPr/>
        </p:nvSpPr>
        <p:spPr>
          <a:xfrm>
            <a:off x="5584680" y="2492280"/>
            <a:ext cx="23004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coronary angiopla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Rectangle 5"/>
          <p:cNvSpPr/>
          <p:nvPr/>
        </p:nvSpPr>
        <p:spPr>
          <a:xfrm>
            <a:off x="6084720" y="3213000"/>
            <a:ext cx="22989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open-heart surg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Rectangle 6"/>
          <p:cNvSpPr/>
          <p:nvPr/>
        </p:nvSpPr>
        <p:spPr>
          <a:xfrm>
            <a:off x="6188040" y="3789360"/>
            <a:ext cx="198432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ve reconstruction or artificial replac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Rectangle 7"/>
          <p:cNvSpPr/>
          <p:nvPr/>
        </p:nvSpPr>
        <p:spPr>
          <a:xfrm>
            <a:off x="6084720" y="450864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gina pecto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Rectangle 8"/>
          <p:cNvSpPr/>
          <p:nvPr/>
        </p:nvSpPr>
        <p:spPr>
          <a:xfrm>
            <a:off x="5373720" y="5373720"/>
            <a:ext cx="157464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rdiac insufficien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Rectangle 9"/>
          <p:cNvSpPr/>
          <p:nvPr/>
        </p:nvSpPr>
        <p:spPr>
          <a:xfrm>
            <a:off x="2627280" y="5411880"/>
            <a:ext cx="166860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erat transpla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Rectangle 10"/>
          <p:cNvSpPr/>
          <p:nvPr/>
        </p:nvSpPr>
        <p:spPr>
          <a:xfrm>
            <a:off x="1332000" y="4653000"/>
            <a:ext cx="202860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rgical treatment of congenital cardiac anomal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Rectangle 11"/>
          <p:cNvSpPr/>
          <p:nvPr/>
        </p:nvSpPr>
        <p:spPr>
          <a:xfrm>
            <a:off x="900000" y="3811680"/>
            <a:ext cx="22748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eripheral blood flow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Rectangle 12"/>
          <p:cNvSpPr/>
          <p:nvPr/>
        </p:nvSpPr>
        <p:spPr>
          <a:xfrm>
            <a:off x="1430280" y="2263680"/>
            <a:ext cx="23940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BG (Coronary Bypass Gra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Rectangle 13"/>
          <p:cNvSpPr/>
          <p:nvPr/>
        </p:nvSpPr>
        <p:spPr>
          <a:xfrm>
            <a:off x="900000" y="3205080"/>
            <a:ext cx="23925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CI (Percutaneous Coronary Interven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and effects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Text Box 2"/>
          <p:cNvSpPr/>
          <p:nvPr/>
        </p:nvSpPr>
        <p:spPr>
          <a:xfrm>
            <a:off x="468360" y="155736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Basic aim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tion of symptom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life quality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physical and social participation in daily life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Effe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of respiratory sympto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physical enduran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in number of hospital stay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the quality of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EDD8E-B10F-45EF-86B1-CFBFC424E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Text Box 2"/>
          <p:cNvSpPr/>
          <p:nvPr/>
        </p:nvSpPr>
        <p:spPr>
          <a:xfrm>
            <a:off x="45720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iratory rehabilitation is used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ulmonary dise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obstructive and restrictiv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stoperative compl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complications occurring due to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 immobiliz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in bed-ridden patients (hypostatic pneumoni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in new breathing patter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ulmonary complications in patients 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inal cord inju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8B1BF-9394-4641-B8CE-66379B686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lmonary diseases which allow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STRU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Text Box 3"/>
          <p:cNvSpPr/>
          <p:nvPr/>
        </p:nvSpPr>
        <p:spPr>
          <a:xfrm>
            <a:off x="457200" y="2492280"/>
            <a:ext cx="404028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involvi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air pass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OP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a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stic fibr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RI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sufficient expansio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dilation) of the lungs du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esions involving the chest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bones or muscl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of the lu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parenchym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Text Box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7E10C-3186-4BE9-A313-AFE1B47FF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Functional assessment of patiens with pulmonary dise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ital sig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ТА, heart rate, breathing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turation, body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sp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breathing pattern; symmetrical chest movements; chest and spine defor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alp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chest wall elasticity; symmetrical chest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spiratory index (breathing ind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unctional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6-min and 12-min walk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Questionnaires about daily lif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0B8E8-F062-4D78-971E-DBE0614A5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Text Box 1"/>
          <p:cNvSpPr/>
          <p:nvPr/>
        </p:nvSpPr>
        <p:spPr>
          <a:xfrm>
            <a:off x="250920" y="417600"/>
            <a:ext cx="8642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toi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 of bronchial collap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e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wing the breathing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rax mobilization with involvement of the anterior abdominal wall as a support for diaphragm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e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9108B-89DA-450A-870E-3DF241F9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Text Box 2"/>
          <p:cNvSpPr/>
          <p:nvPr/>
        </p:nvSpPr>
        <p:spPr>
          <a:xfrm>
            <a:off x="39528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s are us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erosol) Тh (before drain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lax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before breathing exerci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ne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0A53E-F02A-4626-B5CE-33F3F169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Text Box 1"/>
          <p:cNvSpPr/>
          <p:nvPr/>
        </p:nvSpPr>
        <p:spPr>
          <a:xfrm>
            <a:off x="395280" y="692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Text Box 2"/>
          <p:cNvSpPr/>
          <p:nvPr/>
        </p:nvSpPr>
        <p:spPr>
          <a:xfrm>
            <a:off x="349200" y="1484280"/>
            <a:ext cx="4040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ce of bronchospasm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 enters the lungs more easily than it come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is apt to use axilliary breathing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gets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Text Box 3"/>
          <p:cNvSpPr/>
          <p:nvPr/>
        </p:nvSpPr>
        <p:spPr>
          <a:xfrm>
            <a:off x="4643280" y="692280"/>
            <a:ext cx="404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APEUTIC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Text Box 4"/>
          <p:cNvSpPr/>
          <p:nvPr/>
        </p:nvSpPr>
        <p:spPr>
          <a:xfrm>
            <a:off x="4643280" y="1341360"/>
            <a:ext cx="4042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a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al drainage with percussion and vib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xation exercis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47695-DDA6-4941-B3DE-9AEED885D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3" name="AutoShape 6"/>
          <p:cNvCxnSpPr/>
          <p:nvPr/>
        </p:nvCxnSpPr>
        <p:spPr>
          <a:xfrm>
            <a:off x="457200" y="2925720"/>
            <a:ext cx="7781040" cy="1154880"/>
          </a:xfrm>
          <a:prstGeom prst="bentConnector3">
            <a:avLst>
              <a:gd name="adj1" fmla="val 49951"/>
            </a:avLst>
          </a:prstGeom>
          <a:ln cap="sq" w="57240">
            <a:solidFill>
              <a:srgbClr val="ff0000"/>
            </a:solidFill>
            <a:miter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spension of solid particles or liquid droplets in air (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-5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eparation for 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bstances that can be administered by inha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Medici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ronchodilators, secretolytics, bronchoprotective medicines, expectorants, antibiotics, antimycotic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Natural age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ineral, fresh and sea water (they have mucolythic effect, i.e.  they loosen sput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Other substanc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hysiological sa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ssential o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A6E34-08EA-4DB5-83ED-336567C55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mmediate and rapid contact between the medicine and great surface area of the tracheobronchial stem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ast onset of action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use of low doses of the medicin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 small number of systemic side effec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4E10B-D566-4E2D-BF32-6D109103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 Box 2"/>
          <p:cNvSpPr/>
          <p:nvPr/>
        </p:nvSpPr>
        <p:spPr>
          <a:xfrm>
            <a:off x="539640" y="221616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erosol therapy is applied with the use of a standard jet-nebulizer with continuous airway pressure of 5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0EE93-F8B3-435A-A58E-5DDC2A5A7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ehabilitation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 Box 2"/>
          <p:cNvSpPr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ardiologist (supervis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at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otherapist; occupational therap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triti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Social wor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ccupational medicin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F33CF-61F8-49ED-9A13-A6F0D8257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Text Box 1"/>
          <p:cNvSpPr/>
          <p:nvPr/>
        </p:nvSpPr>
        <p:spPr>
          <a:xfrm>
            <a:off x="250920" y="3333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Drainage of respiratory airw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Text Box 2"/>
          <p:cNvSpPr/>
          <p:nvPr/>
        </p:nvSpPr>
        <p:spPr>
          <a:xfrm>
            <a:off x="457200" y="118908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t is applied on the Mascagni's bed for posture drain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with the tilt mechanism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- 3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positions for postural drainage include:</a:t>
            </a: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Initial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depends on the lung segment that we wish to dr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in order to move the mucus more rapidly through the trache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rinci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oblique lying position with the head bent down — such that gravity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a maximal effect of facilitating  the mucus drainage from th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airw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the lung segment to be drained is uppermost on the patient's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Definite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for tracheal drainage, we use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oblique lying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86AA9-D15C-439A-9AFE-883E1F206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Text Box 1"/>
          <p:cNvSpPr/>
          <p:nvPr/>
        </p:nvSpPr>
        <p:spPr>
          <a:xfrm>
            <a:off x="250920" y="274680"/>
            <a:ext cx="8642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9EB4E-05D6-4219-AA23-A5A73B078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8" name="Picture 3" descr=""/>
          <p:cNvPicPr/>
          <p:nvPr/>
        </p:nvPicPr>
        <p:blipFill>
          <a:blip r:embed="rId1"/>
          <a:srcRect l="12354" t="26407" r="62658" b="8076"/>
          <a:stretch/>
        </p:blipFill>
        <p:spPr>
          <a:xfrm>
            <a:off x="611280" y="1268280"/>
            <a:ext cx="3240000" cy="496908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4" descr=""/>
          <p:cNvPicPr/>
          <p:nvPr/>
        </p:nvPicPr>
        <p:blipFill>
          <a:blip r:embed="rId2"/>
          <a:srcRect l="8232" t="10123" r="7726" b="10108"/>
          <a:stretch/>
        </p:blipFill>
        <p:spPr>
          <a:xfrm>
            <a:off x="4572000" y="3860640"/>
            <a:ext cx="3438360" cy="1965600"/>
          </a:xfrm>
          <a:prstGeom prst="rect">
            <a:avLst/>
          </a:prstGeom>
          <a:ln w="0">
            <a:noFill/>
          </a:ln>
        </p:spPr>
      </p:pic>
      <p:sp>
        <p:nvSpPr>
          <p:cNvPr id="2210" name="Text Box 5"/>
          <p:cNvSpPr/>
          <p:nvPr/>
        </p:nvSpPr>
        <p:spPr>
          <a:xfrm>
            <a:off x="4067280" y="1616040"/>
            <a:ext cx="46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ositions are assumed in such an order to allow shifting of the mucus towards the bronchi and the trachea, and its expulsion through coug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Text Box 6"/>
          <p:cNvSpPr/>
          <p:nvPr/>
        </p:nvSpPr>
        <p:spPr>
          <a:xfrm>
            <a:off x="4587480" y="5769000"/>
            <a:ext cx="32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ite drainage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oblique drainage posi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Text Box 2"/>
          <p:cNvSpPr/>
          <p:nvPr/>
        </p:nvSpPr>
        <p:spPr>
          <a:xfrm>
            <a:off x="285840" y="1452600"/>
            <a:ext cx="84009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Besides postural drainage, in order to achieve the removal of thick mucus from the walls of the airway passages, we simultaneously a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Text Box 3"/>
          <p:cNvSpPr/>
          <p:nvPr/>
        </p:nvSpPr>
        <p:spPr>
          <a:xfrm>
            <a:off x="457200" y="250200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Text Box 4"/>
          <p:cNvSpPr/>
          <p:nvPr/>
        </p:nvSpPr>
        <p:spPr>
          <a:xfrm>
            <a:off x="4116240" y="2502000"/>
            <a:ext cx="457056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bration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B6FB2-3554-4D27-901E-35889CDF6A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Breathing with the lips closed around the mouthpiece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f a handheld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Varrying the postion of the steel ball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ncreased bronchial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which helps loosen secretions in the lu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ion on the bronchial walls becom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o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cause fluctation of P during expirium causes vibrations (8-26 Hz) whi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ove the secre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bronchi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04F59-4A2F-458D-96CA-50BB09F158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0" name="Picture 4" descr=""/>
          <p:cNvPicPr/>
          <p:nvPr/>
        </p:nvPicPr>
        <p:blipFill>
          <a:blip r:embed="rId1"/>
          <a:stretch/>
        </p:blipFill>
        <p:spPr>
          <a:xfrm>
            <a:off x="4500720" y="4699080"/>
            <a:ext cx="3886200" cy="1012680"/>
          </a:xfrm>
          <a:prstGeom prst="rect">
            <a:avLst/>
          </a:prstGeom>
          <a:ln w="0">
            <a:noFill/>
          </a:ln>
        </p:spPr>
      </p:pic>
      <p:pic>
        <p:nvPicPr>
          <p:cNvPr id="2221" name="Picture 5" descr=""/>
          <p:cNvPicPr/>
          <p:nvPr/>
        </p:nvPicPr>
        <p:blipFill>
          <a:blip r:embed="rId2"/>
          <a:stretch/>
        </p:blipFill>
        <p:spPr>
          <a:xfrm>
            <a:off x="1143000" y="5373720"/>
            <a:ext cx="2303640" cy="1025640"/>
          </a:xfrm>
          <a:prstGeom prst="rect">
            <a:avLst/>
          </a:prstGeom>
          <a:ln w="0">
            <a:noFill/>
          </a:ln>
        </p:spPr>
      </p:pic>
      <p:pic>
        <p:nvPicPr>
          <p:cNvPr id="2222" name="Picture 6" descr=""/>
          <p:cNvPicPr/>
          <p:nvPr/>
        </p:nvPicPr>
        <p:blipFill>
          <a:blip r:embed="rId3"/>
          <a:stretch/>
        </p:blipFill>
        <p:spPr>
          <a:xfrm>
            <a:off x="1143000" y="4137120"/>
            <a:ext cx="2303640" cy="106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Text Box 1"/>
          <p:cNvSpPr/>
          <p:nvPr/>
        </p:nvSpPr>
        <p:spPr>
          <a:xfrm>
            <a:off x="287280" y="0"/>
            <a:ext cx="8569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Text Box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F64B0-383A-4CA7-A671-DDA21A307B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5" name="Group 3"/>
          <p:cNvGrpSpPr/>
          <p:nvPr/>
        </p:nvGrpSpPr>
        <p:grpSpPr>
          <a:xfrm>
            <a:off x="287280" y="1112760"/>
            <a:ext cx="3678120" cy="3240360"/>
            <a:chOff x="287280" y="1112760"/>
            <a:chExt cx="3678120" cy="3240360"/>
          </a:xfrm>
        </p:grpSpPr>
        <p:pic>
          <p:nvPicPr>
            <p:cNvPr id="2226" name="Picture 4" descr=""/>
            <p:cNvPicPr/>
            <p:nvPr/>
          </p:nvPicPr>
          <p:blipFill>
            <a:blip r:embed="rId1"/>
            <a:stretch/>
          </p:blipFill>
          <p:spPr>
            <a:xfrm>
              <a:off x="401760" y="1539720"/>
              <a:ext cx="356364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5"/>
            <p:cNvSpPr/>
            <p:nvPr/>
          </p:nvSpPr>
          <p:spPr>
            <a:xfrm>
              <a:off x="287280" y="1112760"/>
              <a:ext cx="18813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requency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-26H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Text Box 6"/>
            <p:cNvSpPr/>
            <p:nvPr/>
          </p:nvSpPr>
          <p:spPr>
            <a:xfrm>
              <a:off x="554040" y="3628440"/>
              <a:ext cx="28335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ronchial volume changes in flutter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9" name="Group 7"/>
          <p:cNvGrpSpPr/>
          <p:nvPr/>
        </p:nvGrpSpPr>
        <p:grpSpPr>
          <a:xfrm>
            <a:off x="4267080" y="2209680"/>
            <a:ext cx="4662720" cy="4113360"/>
            <a:chOff x="4267080" y="2209680"/>
            <a:chExt cx="4662720" cy="4113360"/>
          </a:xfrm>
        </p:grpSpPr>
        <p:pic>
          <p:nvPicPr>
            <p:cNvPr id="2230" name="Picture 8" descr=""/>
            <p:cNvPicPr/>
            <p:nvPr/>
          </p:nvPicPr>
          <p:blipFill>
            <a:blip r:embed="rId2"/>
            <a:stretch/>
          </p:blipFill>
          <p:spPr>
            <a:xfrm>
              <a:off x="4267080" y="2209680"/>
              <a:ext cx="466272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1" name="Text Box 9"/>
            <p:cNvSpPr/>
            <p:nvPr/>
          </p:nvSpPr>
          <p:spPr>
            <a:xfrm>
              <a:off x="4282920" y="4179960"/>
              <a:ext cx="13701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outhpie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Text Box 10"/>
            <p:cNvSpPr/>
            <p:nvPr/>
          </p:nvSpPr>
          <p:spPr>
            <a:xfrm>
              <a:off x="7694640" y="4876920"/>
              <a:ext cx="1158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teel ba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Text Box 2"/>
          <p:cNvSpPr/>
          <p:nvPr/>
        </p:nvSpPr>
        <p:spPr>
          <a:xfrm>
            <a:off x="457200" y="1844640"/>
            <a:ext cx="82296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268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volv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nual manouvers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respiratory gymnast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 applying pressure with finger tips, wrists or thumbs to the certain ar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auses pain and pressure over the muscles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“central increase of excitabilit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which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makes breathing dee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y attention about the intensity and rhythm of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imul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rong stimuli are blocking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the weak ones are not effective, too fas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absence of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ceded by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lacement of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warm and cold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compres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n the back, chest and stomach to reduce the skin re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7FF0C-84B9-4425-917F-D39CAAC494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Text Box 1"/>
          <p:cNvSpPr/>
          <p:nvPr/>
        </p:nvSpPr>
        <p:spPr>
          <a:xfrm>
            <a:off x="250920" y="536400"/>
            <a:ext cx="86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Text Box 2"/>
          <p:cNvSpPr/>
          <p:nvPr/>
        </p:nvSpPr>
        <p:spPr>
          <a:xfrm>
            <a:off x="395280" y="1981080"/>
            <a:ext cx="446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back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lateral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8" name="Picture 3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4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240000" cy="1835280"/>
          </a:xfrm>
          <a:prstGeom prst="rect">
            <a:avLst/>
          </a:prstGeom>
          <a:ln w="0">
            <a:noFill/>
          </a:ln>
        </p:spPr>
      </p:pic>
      <p:sp>
        <p:nvSpPr>
          <p:cNvPr id="2240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FFD5E-38E8-44FC-B989-982B44C112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Text Box 2"/>
          <p:cNvSpPr/>
          <p:nvPr/>
        </p:nvSpPr>
        <p:spPr>
          <a:xfrm>
            <a:off x="395280" y="1981080"/>
            <a:ext cx="48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euver with pressure on the medial edge of the scap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ipulation of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. pectoralis maj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3" name="Picture 3" descr=""/>
          <p:cNvPicPr/>
          <p:nvPr/>
        </p:nvPicPr>
        <p:blipFill>
          <a:blip r:embed="rId1"/>
          <a:stretch/>
        </p:blipFill>
        <p:spPr>
          <a:xfrm>
            <a:off x="5638680" y="1916280"/>
            <a:ext cx="2894040" cy="2017440"/>
          </a:xfrm>
          <a:prstGeom prst="rect">
            <a:avLst/>
          </a:prstGeom>
          <a:ln w="0">
            <a:noFill/>
          </a:ln>
        </p:spPr>
      </p:pic>
      <p:pic>
        <p:nvPicPr>
          <p:cNvPr id="2244" name="Picture 4" descr=""/>
          <p:cNvPicPr/>
          <p:nvPr/>
        </p:nvPicPr>
        <p:blipFill>
          <a:blip r:embed="rId2"/>
          <a:stretch/>
        </p:blipFill>
        <p:spPr>
          <a:xfrm>
            <a:off x="5624640" y="4467240"/>
            <a:ext cx="2894040" cy="1886040"/>
          </a:xfrm>
          <a:prstGeom prst="rect">
            <a:avLst/>
          </a:prstGeom>
          <a:ln w="0">
            <a:noFill/>
          </a:ln>
        </p:spPr>
      </p:pic>
      <p:sp>
        <p:nvSpPr>
          <p:cNvPr id="2245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193D6-BC4C-4DC6-A62E-CF93345177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Text Box 1"/>
          <p:cNvSpPr/>
          <p:nvPr/>
        </p:nvSpPr>
        <p:spPr>
          <a:xfrm>
            <a:off x="250920" y="3459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Rela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efore exercis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– 20 m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should lie on his back with mildly bent legs at the knees (a pillow is placed under the knees) and listen to the calming mu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 rel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al relax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BCB7A-3C3B-4812-A262-D4B05F14E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4. Breathing exerci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EB832-BD49-491A-A4E5-555637277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assessment of functional capa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 Box 2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parameter of the functional capacity of the cardiac patients: determination of the oxygen consumption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"anaerobic threshold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largest amount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the heart can offer to the tissues an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largest amount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muscle fibers can utilise during intens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alue is usually expressed b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nits of metabolic equivalent at r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МЕТ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MET = consumption of 3,5 ml 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per kg/body weight/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 МЕТ corresponds to the level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 consumption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 in a healthy man weighing 70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, at rest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1A327-3DDF-428D-8A5D-E250A6961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ns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Text Box 2"/>
          <p:cNvSpPr/>
          <p:nvPr/>
        </p:nvSpPr>
        <p:spPr>
          <a:xfrm>
            <a:off x="4572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nspirium and the first ⅓ of the expirium) – the primary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cos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cles (exter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piratory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822EA-6964-42B1-B38F-EE4CC8499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Ex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Text Box 2"/>
          <p:cNvSpPr/>
          <p:nvPr/>
        </p:nvSpPr>
        <p:spPr>
          <a:xfrm>
            <a:off x="12492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IRATION – passiv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d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xpirato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tissimus do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quadratus lumb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serratus posterior in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092BD-597A-492F-B929-3CD9A356D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Rectangle 4"/>
          <p:cNvSpPr/>
          <p:nvPr/>
        </p:nvSpPr>
        <p:spPr>
          <a:xfrm>
            <a:off x="7380360" y="1027080"/>
            <a:ext cx="154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Rectangle 5"/>
          <p:cNvSpPr/>
          <p:nvPr/>
        </p:nvSpPr>
        <p:spPr>
          <a:xfrm>
            <a:off x="8161200" y="1484280"/>
            <a:ext cx="900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Rectangle 6"/>
          <p:cNvSpPr/>
          <p:nvPr/>
        </p:nvSpPr>
        <p:spPr>
          <a:xfrm>
            <a:off x="5435640" y="1628640"/>
            <a:ext cx="10810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Text Box 1"/>
          <p:cNvSpPr/>
          <p:nvPr/>
        </p:nvSpPr>
        <p:spPr>
          <a:xfrm>
            <a:off x="227160" y="-6660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Text Box 2"/>
          <p:cNvSpPr/>
          <p:nvPr/>
        </p:nvSpPr>
        <p:spPr>
          <a:xfrm>
            <a:off x="457200" y="1278000"/>
            <a:ext cx="82296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4-16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breaths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dults; an infant 4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˃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pathological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xercises have an effect only on th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uxilliary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еspiratory muscle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dominal and the levator muscles of the rib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ile the main respiratory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do not improve their func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Campbel, 196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iaphragmatic breathing is seen in men, while women use cos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ir resistance is 2-3 times greater when breathing through the nose than through the m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82272-67BF-41EE-B680-0D4527B1F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spiratory K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lung venti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E consumption required fo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allev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choking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the chest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limination of the bronchogenic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OTHER ai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deformiti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correc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chest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pleur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adhesio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094E6-D279-4096-A0FC-6394B335F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Text Box 1"/>
          <p:cNvSpPr/>
          <p:nvPr/>
        </p:nvSpPr>
        <p:spPr>
          <a:xfrm>
            <a:off x="324000" y="11592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 Box 2"/>
          <p:cNvSpPr/>
          <p:nvPr/>
        </p:nvSpPr>
        <p:spPr>
          <a:xfrm>
            <a:off x="45720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inciples of breathing exerci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has a shor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ins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inhalation) through the nos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then a slo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ex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exalation) with the mouth half-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Expirium is 2-3 times longer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an inspi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should use (elevate) auxilliary respiratory muscles (exercises for strengthening the abdominal muscles) and hold arms on the 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are first performed in a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ying posi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sitt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then, while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D4720-7B97-4785-B350-89ACC3B41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Text Box 1"/>
          <p:cNvSpPr/>
          <p:nvPr/>
        </p:nvSpPr>
        <p:spPr>
          <a:xfrm>
            <a:off x="250920" y="549360"/>
            <a:ext cx="8569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Text Box 2"/>
          <p:cNvSpPr/>
          <p:nvPr/>
        </p:nvSpPr>
        <p:spPr>
          <a:xfrm>
            <a:off x="4284720" y="1981080"/>
            <a:ext cx="460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phragmatic and lower costal breathing tr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ndbag breathing for diaphrag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1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189240" cy="193500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4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3189240" cy="1908360"/>
          </a:xfrm>
          <a:prstGeom prst="rect">
            <a:avLst/>
          </a:prstGeom>
          <a:ln w="0">
            <a:noFill/>
          </a:ln>
        </p:spPr>
      </p:pic>
      <p:sp>
        <p:nvSpPr>
          <p:cNvPr id="2273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DBFBC-2180-4415-989B-C059AFAEF1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Text Box 2"/>
          <p:cNvSpPr/>
          <p:nvPr/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can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whis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6" name="Picture 3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2616120" cy="1654200"/>
          </a:xfrm>
          <a:prstGeom prst="rect">
            <a:avLst/>
          </a:prstGeom>
          <a:ln w="0">
            <a:noFill/>
          </a:ln>
        </p:spPr>
      </p:pic>
      <p:pic>
        <p:nvPicPr>
          <p:cNvPr id="2277" name="Picture 4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2577960" cy="1800360"/>
          </a:xfrm>
          <a:prstGeom prst="rect">
            <a:avLst/>
          </a:prstGeom>
          <a:ln w="0">
            <a:noFill/>
          </a:ln>
        </p:spPr>
      </p:pic>
      <p:sp>
        <p:nvSpPr>
          <p:cNvPr id="2278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E0E7F-512A-466C-80B3-63F2BF4835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0" name="Picture 2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2281" name="Text Box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F8142-8F2C-4B97-9B77-786A5088FA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Text Box 2"/>
          <p:cNvSpPr/>
          <p:nvPr/>
        </p:nvSpPr>
        <p:spPr>
          <a:xfrm>
            <a:off x="4648320" y="219384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props for b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soap bub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4" name="Picture 3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914560" cy="2143080"/>
          </a:xfrm>
          <a:prstGeom prst="rect">
            <a:avLst/>
          </a:prstGeom>
          <a:ln w="0">
            <a:noFill/>
          </a:ln>
        </p:spPr>
      </p:pic>
      <p:pic>
        <p:nvPicPr>
          <p:cNvPr id="2285" name="Picture 4" descr=""/>
          <p:cNvPicPr/>
          <p:nvPr/>
        </p:nvPicPr>
        <p:blipFill>
          <a:blip r:embed="rId2"/>
          <a:stretch/>
        </p:blipFill>
        <p:spPr>
          <a:xfrm>
            <a:off x="952560" y="2057400"/>
            <a:ext cx="2971800" cy="1677960"/>
          </a:xfrm>
          <a:prstGeom prst="rect">
            <a:avLst/>
          </a:prstGeom>
          <a:ln w="0">
            <a:noFill/>
          </a:ln>
        </p:spPr>
      </p:pic>
      <p:sp>
        <p:nvSpPr>
          <p:cNvPr id="2286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2CE12-5D43-4A41-8A55-4B8C94D716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Text Box 2"/>
          <p:cNvSpPr/>
          <p:nvPr/>
        </p:nvSpPr>
        <p:spPr>
          <a:xfrm>
            <a:off x="4572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cloergometer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Various  gymnastic exercises involving the extremities, abdominal and back musculatur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ing; exercises with weights; Tai-chi; hydro-КТ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: 20-30 min, 2-3 times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should be performed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3D292-15AF-4AF3-B3C9-23DE01C44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Physical workload,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 functional capacity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, physiological symptoms and </a:t>
            </a:r>
            <a:r>
              <a:rPr b="1" lang="hr-HR" sz="3400" spc="-1" strike="noStrike">
                <a:solidFill>
                  <a:srgbClr val="000000"/>
                </a:solidFill>
                <a:latin typeface="Calibri"/>
              </a:rPr>
              <a:t>M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2" name="Group 2"/>
          <p:cNvGrpSpPr/>
          <p:nvPr/>
        </p:nvGrpSpPr>
        <p:grpSpPr>
          <a:xfrm>
            <a:off x="179280" y="1341360"/>
            <a:ext cx="8769600" cy="5408640"/>
            <a:chOff x="179280" y="1341360"/>
            <a:chExt cx="8769600" cy="5408640"/>
          </a:xfrm>
        </p:grpSpPr>
        <p:sp>
          <p:nvSpPr>
            <p:cNvPr id="2013" name="Rectangle 3"/>
            <p:cNvSpPr/>
            <p:nvPr/>
          </p:nvSpPr>
          <p:spPr>
            <a:xfrm>
              <a:off x="179280" y="1341360"/>
              <a:ext cx="2180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orkload gro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4"/>
            <p:cNvSpPr/>
            <p:nvPr/>
          </p:nvSpPr>
          <p:spPr>
            <a:xfrm>
              <a:off x="2374200" y="1341360"/>
              <a:ext cx="145836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capac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5"/>
            <p:cNvSpPr/>
            <p:nvPr/>
          </p:nvSpPr>
          <p:spPr>
            <a:xfrm>
              <a:off x="3842640" y="1341360"/>
              <a:ext cx="3386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symptom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"/>
            <p:cNvSpPr/>
            <p:nvPr/>
          </p:nvSpPr>
          <p:spPr>
            <a:xfrm>
              <a:off x="7247160" y="1341360"/>
              <a:ext cx="168552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М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7"/>
            <p:cNvSpPr/>
            <p:nvPr/>
          </p:nvSpPr>
          <p:spPr>
            <a:xfrm>
              <a:off x="179280" y="2347560"/>
              <a:ext cx="2180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eavy to very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8"/>
            <p:cNvSpPr/>
            <p:nvPr/>
          </p:nvSpPr>
          <p:spPr>
            <a:xfrm>
              <a:off x="2374200" y="2347560"/>
              <a:ext cx="145836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Norm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9"/>
            <p:cNvSpPr/>
            <p:nvPr/>
          </p:nvSpPr>
          <p:spPr>
            <a:xfrm>
              <a:off x="3842640" y="2347560"/>
              <a:ext cx="3386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ymptoma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10"/>
            <p:cNvSpPr/>
            <p:nvPr/>
          </p:nvSpPr>
          <p:spPr>
            <a:xfrm>
              <a:off x="7247160" y="2347560"/>
              <a:ext cx="168552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≥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11"/>
            <p:cNvSpPr/>
            <p:nvPr/>
          </p:nvSpPr>
          <p:spPr>
            <a:xfrm>
              <a:off x="179280" y="3106080"/>
              <a:ext cx="2180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edium to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12"/>
            <p:cNvSpPr/>
            <p:nvPr/>
          </p:nvSpPr>
          <p:spPr>
            <a:xfrm>
              <a:off x="2374200" y="3106080"/>
              <a:ext cx="145836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Rectangle 13"/>
            <p:cNvSpPr/>
            <p:nvPr/>
          </p:nvSpPr>
          <p:spPr>
            <a:xfrm>
              <a:off x="3842640" y="3106080"/>
              <a:ext cx="3386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-No limita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of physical activ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Rectangle 14"/>
            <p:cNvSpPr/>
            <p:nvPr/>
          </p:nvSpPr>
          <p:spPr>
            <a:xfrm>
              <a:off x="7247160" y="3106080"/>
              <a:ext cx="168552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˃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Rectangle 15"/>
            <p:cNvSpPr/>
            <p:nvPr/>
          </p:nvSpPr>
          <p:spPr>
            <a:xfrm>
              <a:off x="179280" y="4013640"/>
              <a:ext cx="2180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ight to medium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Rectangle 16"/>
            <p:cNvSpPr/>
            <p:nvPr/>
          </p:nvSpPr>
          <p:spPr>
            <a:xfrm>
              <a:off x="2374200" y="4013640"/>
              <a:ext cx="145836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Rectangle 17"/>
            <p:cNvSpPr/>
            <p:nvPr/>
          </p:nvSpPr>
          <p:spPr>
            <a:xfrm>
              <a:off x="3842640" y="4013640"/>
              <a:ext cx="3386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slight to moderate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Rectangle 18"/>
            <p:cNvSpPr/>
            <p:nvPr/>
          </p:nvSpPr>
          <p:spPr>
            <a:xfrm>
              <a:off x="7247160" y="4013640"/>
              <a:ext cx="168552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 –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Rectangle 19"/>
            <p:cNvSpPr/>
            <p:nvPr/>
          </p:nvSpPr>
          <p:spPr>
            <a:xfrm>
              <a:off x="179280" y="4921560"/>
              <a:ext cx="2180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 to light work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Rectangle 20"/>
            <p:cNvSpPr/>
            <p:nvPr/>
          </p:nvSpPr>
          <p:spPr>
            <a:xfrm>
              <a:off x="2374200" y="4921560"/>
              <a:ext cx="145836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Rectangle 21"/>
            <p:cNvSpPr/>
            <p:nvPr/>
          </p:nvSpPr>
          <p:spPr>
            <a:xfrm>
              <a:off x="3842640" y="4921560"/>
              <a:ext cx="3386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moderate to marked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Rectangle 22"/>
            <p:cNvSpPr/>
            <p:nvPr/>
          </p:nvSpPr>
          <p:spPr>
            <a:xfrm>
              <a:off x="7247160" y="4921560"/>
              <a:ext cx="168552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 –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Rectangle 23"/>
            <p:cNvSpPr/>
            <p:nvPr/>
          </p:nvSpPr>
          <p:spPr>
            <a:xfrm>
              <a:off x="179280" y="5835600"/>
              <a:ext cx="2180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Rectangle 24"/>
            <p:cNvSpPr/>
            <p:nvPr/>
          </p:nvSpPr>
          <p:spPr>
            <a:xfrm>
              <a:off x="2374200" y="5835600"/>
              <a:ext cx="145836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Rectangle 25"/>
            <p:cNvSpPr/>
            <p:nvPr/>
          </p:nvSpPr>
          <p:spPr>
            <a:xfrm>
              <a:off x="3842640" y="5835600"/>
              <a:ext cx="3386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– symptoms present,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even at rest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fatigue, arrhythmia, choking, АP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Rectangle 26"/>
            <p:cNvSpPr/>
            <p:nvPr/>
          </p:nvSpPr>
          <p:spPr>
            <a:xfrm>
              <a:off x="7247160" y="5835600"/>
              <a:ext cx="168552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 –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27"/>
            <p:cNvSpPr/>
            <p:nvPr/>
          </p:nvSpPr>
          <p:spPr>
            <a:xfrm>
              <a:off x="237420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28"/>
            <p:cNvSpPr/>
            <p:nvPr/>
          </p:nvSpPr>
          <p:spPr>
            <a:xfrm>
              <a:off x="384264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9"/>
            <p:cNvSpPr/>
            <p:nvPr/>
          </p:nvSpPr>
          <p:spPr>
            <a:xfrm>
              <a:off x="724716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30"/>
            <p:cNvSpPr/>
            <p:nvPr/>
          </p:nvSpPr>
          <p:spPr>
            <a:xfrm>
              <a:off x="179280" y="2347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31"/>
            <p:cNvSpPr/>
            <p:nvPr/>
          </p:nvSpPr>
          <p:spPr>
            <a:xfrm>
              <a:off x="179280" y="310608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32"/>
            <p:cNvSpPr/>
            <p:nvPr/>
          </p:nvSpPr>
          <p:spPr>
            <a:xfrm>
              <a:off x="179280" y="401364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Line 33"/>
            <p:cNvSpPr/>
            <p:nvPr/>
          </p:nvSpPr>
          <p:spPr>
            <a:xfrm>
              <a:off x="179280" y="4921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Line 34"/>
            <p:cNvSpPr/>
            <p:nvPr/>
          </p:nvSpPr>
          <p:spPr>
            <a:xfrm>
              <a:off x="179280" y="58356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35"/>
            <p:cNvSpPr/>
            <p:nvPr/>
          </p:nvSpPr>
          <p:spPr>
            <a:xfrm>
              <a:off x="1792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Line 36"/>
            <p:cNvSpPr/>
            <p:nvPr/>
          </p:nvSpPr>
          <p:spPr>
            <a:xfrm>
              <a:off x="89488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37"/>
            <p:cNvSpPr/>
            <p:nvPr/>
          </p:nvSpPr>
          <p:spPr>
            <a:xfrm>
              <a:off x="179280" y="13413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Line 38"/>
            <p:cNvSpPr/>
            <p:nvPr/>
          </p:nvSpPr>
          <p:spPr>
            <a:xfrm>
              <a:off x="179280" y="67500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9" name="Text Box 3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AC3BB-A854-4ACD-8792-4B09540F3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Climat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most suitable is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moderate-altitude climate (маx 800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!!!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nd coastal climate, although there is an individual reaction to cl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65D81-1C0C-40F8-88A6-C6F62F79B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Text Box 1"/>
          <p:cNvSpPr/>
          <p:nvPr/>
        </p:nvSpPr>
        <p:spPr>
          <a:xfrm>
            <a:off x="179280" y="404640"/>
            <a:ext cx="883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rapeutic classification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cardiac patien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Text Box 2"/>
          <p:cNvSpPr/>
          <p:nvPr/>
        </p:nvSpPr>
        <p:spPr>
          <a:xfrm>
            <a:off x="468360" y="1484280"/>
            <a:ext cx="83707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А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B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t wh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hould avoid strenous activit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ompetition at wo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C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rate limi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hysical activities, but who should be prohibi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reat physical exer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D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ies need to be greatly limi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Е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te bed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involves staying in bed or wheeling cha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395CB-4F85-460A-9AE4-D0983ECD2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Text Box 1"/>
          <p:cNvSpPr/>
          <p:nvPr/>
        </p:nvSpPr>
        <p:spPr>
          <a:xfrm>
            <a:off x="250920" y="62064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Text Box 2"/>
          <p:cNvSpPr/>
          <p:nvPr/>
        </p:nvSpPr>
        <p:spPr>
          <a:xfrm>
            <a:off x="468360" y="1484280"/>
            <a:ext cx="8218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 Physical examination of the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the heart 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blood pressure 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cussion, palpation and auscul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cardiographic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appear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devi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thological ECG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8A4EA-A939-45EC-8E03-7E608C5D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Text Box 2"/>
          <p:cNvSpPr/>
          <p:nvPr/>
        </p:nvSpPr>
        <p:spPr>
          <a:xfrm>
            <a:off x="468360" y="1484280"/>
            <a:ext cx="8370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boratory 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 standard indicators (sedimentation, complete blood count, glycaemia, cholesterol, urine, urea, triglycerides,  urine, urea, blood group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b) cholesterol fractions, transaminase, apoprotein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) determination of C-reactive protein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) determination of fibrinopeptide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) determination of electrol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inti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chocardi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giocardiography (coronarograph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lectrical bioimpe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2A888-C8EC-48DF-9FFD-CF41066A8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4:35:16Z</dcterms:created>
  <dc:creator>WIN98SE</dc:creator>
  <dc:description/>
  <dc:language>en-US</dc:language>
  <cp:lastModifiedBy>Nada Miklja</cp:lastModifiedBy>
  <dcterms:modified xsi:type="dcterms:W3CDTF">2023-09-27T09:32:47Z</dcterms:modified>
  <cp:revision>424</cp:revision>
  <dc:subject/>
  <dc:title>Rehabilitacija AIM</dc:title>
</cp:coreProperties>
</file>